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" name="Group 31"/>
          <p:cNvGrpSpPr/>
          <p:nvPr/>
        </p:nvGrpSpPr>
        <p:grpSpPr>
          <a:xfrm>
            <a:off x="0" y="6470640"/>
            <a:ext cx="9144000" cy="380880"/>
            <a:chOff x="0" y="6470640"/>
            <a:chExt cx="9144000" cy="380880"/>
          </a:xfrm>
        </p:grpSpPr>
        <p:graphicFrame>
          <p:nvGraphicFramePr>
            <p:cNvPr id="23" name="Object 32"/>
            <p:cNvGraphicFramePr/>
            <p:nvPr/>
          </p:nvGraphicFramePr>
          <p:xfrm>
            <a:off x="0" y="6470640"/>
            <a:ext cx="4572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" name="Object 3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470640"/>
                      <a:ext cx="4572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" name="Group 33"/>
            <p:cNvGrpSpPr/>
            <p:nvPr/>
          </p:nvGrpSpPr>
          <p:grpSpPr>
            <a:xfrm>
              <a:off x="457200" y="6470640"/>
              <a:ext cx="8686800" cy="380880"/>
              <a:chOff x="457200" y="6470640"/>
              <a:chExt cx="8686800" cy="380880"/>
            </a:xfrm>
          </p:grpSpPr>
          <p:pic>
            <p:nvPicPr>
              <p:cNvPr id="26" name="Picture 34" descr="hi-res-iop-logo"/>
              <p:cNvPicPr/>
              <p:nvPr/>
            </p:nvPicPr>
            <p:blipFill>
              <a:blip r:embed="rId4"/>
              <a:stretch/>
            </p:blipFill>
            <p:spPr>
              <a:xfrm>
                <a:off x="5486400" y="6470640"/>
                <a:ext cx="365760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" name="Text Box 35"/>
              <p:cNvSpPr/>
              <p:nvPr/>
            </p:nvSpPr>
            <p:spPr>
              <a:xfrm>
                <a:off x="457200" y="6470640"/>
                <a:ext cx="5029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© WHO Collaborating Cent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1026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8" name="Freeform 1027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28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Freeform 1029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30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2" name="Freeform 1031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" name="Group 1032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4" name="Freeform 1033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1034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1035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1036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1037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Freeform 1038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1039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" name="Freeform 1040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1041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1042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043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044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045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" name="Group 1054"/>
          <p:cNvGrpSpPr/>
          <p:nvPr/>
        </p:nvGrpSpPr>
        <p:grpSpPr>
          <a:xfrm>
            <a:off x="0" y="6470640"/>
            <a:ext cx="9144000" cy="380880"/>
            <a:chOff x="0" y="6470640"/>
            <a:chExt cx="9144000" cy="380880"/>
          </a:xfrm>
        </p:grpSpPr>
        <p:graphicFrame>
          <p:nvGraphicFramePr>
            <p:cNvPr id="88" name="Object 1055"/>
            <p:cNvGraphicFramePr/>
            <p:nvPr/>
          </p:nvGraphicFramePr>
          <p:xfrm>
            <a:off x="0" y="6470640"/>
            <a:ext cx="4572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Object 105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470640"/>
                      <a:ext cx="4572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0" name="Group 1056"/>
            <p:cNvGrpSpPr/>
            <p:nvPr/>
          </p:nvGrpSpPr>
          <p:grpSpPr>
            <a:xfrm>
              <a:off x="457200" y="6470640"/>
              <a:ext cx="8686800" cy="380880"/>
              <a:chOff x="457200" y="6470640"/>
              <a:chExt cx="8686800" cy="380880"/>
            </a:xfrm>
          </p:grpSpPr>
          <p:pic>
            <p:nvPicPr>
              <p:cNvPr id="91" name="Picture 1057" descr="hi-res-iop-logo"/>
              <p:cNvPicPr/>
              <p:nvPr/>
            </p:nvPicPr>
            <p:blipFill>
              <a:blip r:embed="rId4"/>
              <a:stretch/>
            </p:blipFill>
            <p:spPr>
              <a:xfrm>
                <a:off x="5486400" y="6470640"/>
                <a:ext cx="365760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Text Box 1058"/>
              <p:cNvSpPr/>
              <p:nvPr/>
            </p:nvSpPr>
            <p:spPr>
              <a:xfrm>
                <a:off x="457200" y="6470640"/>
                <a:ext cx="5029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© WHO Collaborating Cent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ental Health in Primary Car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MTC Continuing Professional Development Program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Activity: Pre-training assessment</a:t>
            </a:r>
            <a:r>
              <a:rPr b="0" lang="en-GB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ould like to see whether our course is effective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e would like you to fill in the questionn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be analysing it to see if the group as a whole benefits from the co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you do not need to put your name on the paper if you don’t want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63188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UNIT 1: CONCEPTS OF MENTAL HEALT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285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unit comprises 57 Slides, interspersed by questions and Discu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take a moment to orientate yourself through pages 1-13 of the WHO primary care guidelines-reading these is part of your homework  for tonigh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1.1. mental health, mental illness, causes, consequences, intervention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ntal health and healthy life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ntal disorde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valence and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iopsychosocial causes and conse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yths and miscon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lture and mental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Mental Health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sense of well-be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ef in  own worth and the dignity and worth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ility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l with the inner world of thinking, feeling, managing life and taking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itiate, develop and sustain mutually satisfying personal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 a spiritual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healthy lifestyl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ng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 –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ships with family members, friends,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sing time, money,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on and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clubs, religious groups, self-help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are mental disorder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urbances in perception, beliefs, thought processes and mood (psycho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urbances in mood, concentration, irritability, fatigue (neuroses or common mental disord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essive organic disease of the brain (dementi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normal personality traits which are handicapping to the individual and /or to others (Personality disord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ss consumption and dependency on alcohol, drugs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verall Prevalence Rates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on Mental Disorders 10-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ychoses 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sonality disorders 3-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entias 5% over 65 and 20% over 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tance abuse –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ldhood disorders-1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ymptoms of common mental disor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ssive concern about bodily symptoms (headache, backach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s of enj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 m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xiety and p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aire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aired appetite and weigh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 lib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sessional thoughts and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mmon Mental disor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ed anxiety-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nic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io-psycho-social causes of mental ill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fe events e.g bereavement, unem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nic adversity e.g poverty, domestic viol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social sup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ycholog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ssimistic cognitive appro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helpful learned patterns of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oc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rpose  of program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mental health capacity in primar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ng 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ooster, jump start, eye open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io-psycho-social consequences of mental illness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ic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ill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on ca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rnout, compassion fatigue,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tal break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llectual and emotional damage to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ycle of disadvantage across gen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ed access to and success of physical health program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ationale for action on mental heal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mental health contributes to the social, human and economic capital of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urden of mental illness is 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interventions are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on myths and misconceptions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disorders cannot be t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disorders never get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illness only happens to oth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illness is mostly caused by addictions- therefore if we put all our resources into prevention of drug trafficking and addiction we won’t need to worry about mental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on Myths and Misconceptions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Disorders are not real illnesses, so it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ssential to put on the agenda of key health committ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ssential to make available essential medicines and trea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ssential to have adequate recording and monito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ssential to have high organisational profile at national, regional and loc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ssential to have human resource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ways to ca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nsary and health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ct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i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ulture and mental health 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erroneous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tal illness is rare in low income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izophrenia is rare in low income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Schizophrenia has a better outcome in low income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ression in low income countries presents with somatic symptoms rather than low mood, compared to western countries-in fact it presents with somatic symptoms in both rich and poo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ulture and mental health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infl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placed by society on mental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 of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ness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y individuals and families manage il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y community responds to il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acceptance 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stigma and discri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ntal Health Interven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Pro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of mor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Promotion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Enhancing healthy functioning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-s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u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nal and child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loyment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imary Prevention-preventing illnes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vulnerable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OUND RU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g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do we all suggest to facilitate smooth running of the cour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Secondary Prevention-e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arly detection and treatment to facilitate recovery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sis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-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-social support 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ertiary Prevention-Rehabilitation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event disability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healthy fun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evention of mortali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c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e physical mor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63188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1. 2. MENTAL HEALTH AND PHYSICAL HEALT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I want from this cours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write answers on 1 sheet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hing I hope will happen is…………………………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hing I hope won’t happen is………………………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know if the course has been successful  if…………………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THODS OF COUR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ory for all of us so that we can improve our skills and competencies as well as our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-play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roup discus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group discussio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LE PLAYS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 do role 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takes part in each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plit into groups of 3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ne person takes the role of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he rel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ne person is the health worker at the health centre or dispen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LE PLAYS 2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fter 5-10 mins  acting the scenario in separate groups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teacher then selects one of the groups to demonstrate to the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then we have a general discussion about what the demonstration did we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what could be im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URSE MATERIA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heck you have everything in your pack and can recognis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training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iculum timetable for the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play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 2 Slides –core sk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Primary care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ual for volunteer community health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Health Act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 training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SE OF COURSE MATERIA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very intensive co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make plenty of time for discussion and role 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giving you the course materials so that you can use them every day over the next five years f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whenever  it is helpful to look something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 to colleagues and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20:35:54Z</dcterms:created>
  <dc:creator>Rachel</dc:creator>
  <dc:description/>
  <dc:language>en-US</dc:language>
  <cp:lastModifiedBy>Rachel McDougall Jenkins</cp:lastModifiedBy>
  <dcterms:modified xsi:type="dcterms:W3CDTF">2007-03-31T15:57:27Z</dcterms:modified>
  <cp:revision>117</cp:revision>
  <dc:subject/>
  <dc:title>HEALTH POLICY</dc:title>
</cp:coreProperties>
</file>