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220.xml.rels" ContentType="application/vnd.openxmlformats-package.relationships+xml"/>
  <Override PartName="/ppt/slides/_rels/slide177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22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22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44.xml.rels" ContentType="application/vnd.openxmlformats-package.relationships+xml"/>
  <Override PartName="/ppt/slides/_rels/slide224.xml.rels" ContentType="application/vnd.openxmlformats-package.relationships+xml"/>
  <Override PartName="/ppt/slides/_rels/slide49.xml.rels" ContentType="application/vnd.openxmlformats-package.relationships+xml"/>
  <Override PartName="/ppt/slides/_rels/slide22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13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11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217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46.xml.rels" ContentType="application/vnd.openxmlformats-package.relationships+xml"/>
  <Override PartName="/ppt/slides/_rels/slide22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50.xml.rels" ContentType="application/vnd.openxmlformats-package.relationships+xml"/>
  <Override PartName="/ppt/slides/_rels/slide230.xml.rels" ContentType="application/vnd.openxmlformats-package.relationships+xml"/>
  <Override PartName="/ppt/slides/_rels/slide51.xml.rels" ContentType="application/vnd.openxmlformats-package.relationships+xml"/>
  <Override PartName="/ppt/slides/_rels/slide151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56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210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7.xml.rels" ContentType="application/vnd.openxmlformats-package.relationships+xml"/>
  <Override PartName="/ppt/slides/_rels/slide20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211.xml.rels" ContentType="application/vnd.openxmlformats-package.relationships+xml"/>
  <Override PartName="/ppt/slides/_rels/slide31.xml.rels" ContentType="application/vnd.openxmlformats-package.relationships+xml"/>
  <Override PartName="/ppt/slides/_rels/slide159.xml.rels" ContentType="application/vnd.openxmlformats-package.relationships+xml"/>
  <Override PartName="/ppt/slides/_rels/slide204.xml.rels" ContentType="application/vnd.openxmlformats-package.relationships+xml"/>
  <Override PartName="/ppt/slides/_rels/slide196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188.xml.rels" ContentType="application/vnd.openxmlformats-package.relationships+xml"/>
  <Override PartName="/ppt/slides/_rels/slide16.xml.rels" ContentType="application/vnd.openxmlformats-package.relationships+xml"/>
  <Override PartName="/ppt/slides/_rels/slide169.xml.rels" ContentType="application/vnd.openxmlformats-package.relationships+xml"/>
  <Override PartName="/ppt/slides/_rels/slide221.xml.rels" ContentType="application/vnd.openxmlformats-package.relationships+xml"/>
  <Override PartName="/ppt/slides/_rels/slide41.xml.rels" ContentType="application/vnd.openxmlformats-package.relationships+xml"/>
  <Override PartName="/ppt/slides/_rels/slide206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218.xml.rels" ContentType="application/vnd.openxmlformats-package.relationships+xml"/>
  <Override PartName="/ppt/slides/_rels/slide132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154.xml.rels" ContentType="application/vnd.openxmlformats-package.relationships+xml"/>
  <Override PartName="/ppt/slides/_rels/slide3.xml.rels" ContentType="application/vnd.openxmlformats-package.relationships+xml"/>
  <Override PartName="/ppt/slides/_rels/slide16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1.xml.rels" ContentType="application/vnd.openxmlformats-package.relationships+xml"/>
  <Override PartName="/ppt/slides/_rels/slide129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70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72.xml.rels" ContentType="application/vnd.openxmlformats-package.relationships+xml"/>
  <Override PartName="/ppt/slides/_rels/slide155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2.xml.rels" ContentType="application/vnd.openxmlformats-package.relationships+xml"/>
  <Override PartName="/ppt/slides/_rels/slide67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1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20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62.xml.rels" ContentType="application/vnd.openxmlformats-package.relationships+xml"/>
  <Override PartName="/ppt/slides/_rels/slide61.xml.rels" ContentType="application/vnd.openxmlformats-package.relationships+xml"/>
  <Override PartName="/ppt/slides/_rels/slide136.xml.rels" ContentType="application/vnd.openxmlformats-package.relationships+xml"/>
  <Override PartName="/ppt/slides/_rels/slide59.xml.rels" ContentType="application/vnd.openxmlformats-package.relationships+xml"/>
  <Override PartName="/ppt/slides/_rels/slide60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2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49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57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179.xml.rels" ContentType="application/vnd.openxmlformats-package.relationships+xml"/>
  <Override PartName="/ppt/slides/_rels/slide231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52.xml.rels" ContentType="application/vnd.openxmlformats-package.relationships+xml"/>
  <Override PartName="/ppt/slides/_rels/slide232.xml.rels" ContentType="application/vnd.openxmlformats-package.relationships+xml"/>
  <Override PartName="/ppt/slides/_rels/slide53.xml.rels" ContentType="application/vnd.openxmlformats-package.relationships+xml"/>
  <Override PartName="/ppt/slides/_rels/slide233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54.xml.rels" ContentType="application/vnd.openxmlformats-package.relationships+xml"/>
  <Override PartName="/ppt/slides/_rels/slide234.xml.rels" ContentType="application/vnd.openxmlformats-package.relationships+xml"/>
  <Override PartName="/ppt/slides/_rels/slide102.xml.rels" ContentType="application/vnd.openxmlformats-package.relationships+xml"/>
  <Override PartName="/ppt/slides/_rels/slide205.xml.rels" ContentType="application/vnd.openxmlformats-package.relationships+xml"/>
  <Override PartName="/ppt/slides/_rels/slide197.xml.rels" ContentType="application/vnd.openxmlformats-package.relationships+xml"/>
  <Override PartName="/ppt/slides/_rels/slide25.xml.rels" ContentType="application/vnd.openxmlformats-package.relationships+xml"/>
  <Override PartName="/ppt/slides/_rels/slide167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201.xml.rels" ContentType="application/vnd.openxmlformats-package.relationships+xml"/>
  <Override PartName="/ppt/slides/_rels/slide55.xml.rels" ContentType="application/vnd.openxmlformats-package.relationships+xml"/>
  <Override PartName="/ppt/slides/_rels/slide43.xml.rels" ContentType="application/vnd.openxmlformats-package.relationships+xml"/>
  <Override PartName="/ppt/slides/_rels/slide223.xml.rels" ContentType="application/vnd.openxmlformats-package.relationships+xml"/>
  <Override PartName="/ppt/slides/_rels/slide207.xml.rels" ContentType="application/vnd.openxmlformats-package.relationships+xml"/>
  <Override PartName="/ppt/slides/_rels/slide27.xml.rels" ContentType="application/vnd.openxmlformats-package.relationships+xml"/>
  <Override PartName="/ppt/slides/_rels/slide199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20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158.xml" ContentType="application/vnd.openxmlformats-officedocument.presentationml.slide+xml"/>
  <Override PartName="/ppt/slides/slide159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25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226.xml" ContentType="application/vnd.openxmlformats-officedocument.presentationml.slide+xml"/>
  <Override PartName="/ppt/slides/slide33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227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1.xml" ContentType="application/vnd.openxmlformats-officedocument.presentationml.slide+xml"/>
  <Override PartName="/ppt/slides/slide199.xml" ContentType="application/vnd.openxmlformats-officedocument.presentationml.slide+xml"/>
  <Override PartName="/ppt/slides/slide228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138.xml" ContentType="application/vnd.openxmlformats-officedocument.presentationml.slide+xml"/>
  <Override PartName="/ppt/slides/slide232.xml" ContentType="application/vnd.openxmlformats-officedocument.presentationml.slide+xml"/>
  <Override PartName="/ppt/slides/slide223.xml" ContentType="application/vnd.openxmlformats-officedocument.presentationml.slide+xml"/>
  <Override PartName="/ppt/slides/slide197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9.xml" ContentType="application/vnd.openxmlformats-officedocument.presentationml.slide+xml"/>
  <Override PartName="/ppt/slides/slide233.xml" ContentType="application/vnd.openxmlformats-officedocument.presentationml.slide+xml"/>
  <Override PartName="/ppt/slides/slide40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30.xml" ContentType="application/vnd.openxmlformats-officedocument.presentationml.slide+xml"/>
  <Override PartName="/ppt/slides/slide136.xml" ContentType="application/vnd.openxmlformats-officedocument.presentationml.slide+xml"/>
  <Override PartName="/ppt/slides/slide229.xml" ContentType="application/vnd.openxmlformats-officedocument.presentationml.slide+xml"/>
  <Override PartName="/ppt/slides/slide146.xml" ContentType="application/vnd.openxmlformats-officedocument.presentationml.slide+xml"/>
  <Override PartName="/ppt/slides/slide231.xml" ContentType="application/vnd.openxmlformats-officedocument.presentationml.slide+xml"/>
  <Override PartName="/ppt/slides/slide137.xml" ContentType="application/vnd.openxmlformats-officedocument.presentationml.slide+xml"/>
  <Override PartName="/ppt/slides/slide147.xml" ContentType="application/vnd.openxmlformats-officedocument.presentationml.slide+xml"/>
  <Override PartName="/ppt/slides/slide148.xml" ContentType="application/vnd.openxmlformats-officedocument.presentationml.slide+xml"/>
  <Override PartName="/ppt/slides/slide222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234.xml" ContentType="application/vnd.openxmlformats-officedocument.presentationml.slide+xml"/>
  <Override PartName="/ppt/slides/slide41.xml" ContentType="application/vnd.openxmlformats-officedocument.presentationml.slide+xml"/>
  <Override PartName="/ppt/slides/slide221.xml" ContentType="application/vnd.openxmlformats-officedocument.presentationml.slide+xml"/>
  <Override PartName="/ppt/slides/slide219.xml" ContentType="application/vnd.openxmlformats-officedocument.presentationml.slide+xml"/>
  <Override PartName="/ppt/slides/slide220.xml" ContentType="application/vnd.openxmlformats-officedocument.presentationml.slide+xml"/>
  <Override PartName="/ppt/slides/slide216.xml" ContentType="application/vnd.openxmlformats-officedocument.presentationml.slide+xml"/>
  <Override PartName="/ppt/slides/slide215.xml" ContentType="application/vnd.openxmlformats-officedocument.presentationml.slide+xml"/>
  <Override PartName="/ppt/slides/slide214.xml" ContentType="application/vnd.openxmlformats-officedocument.presentationml.slide+xml"/>
  <Override PartName="/ppt/slides/slide213.xml" ContentType="application/vnd.openxmlformats-officedocument.presentationml.slide+xml"/>
  <Override PartName="/ppt/slides/slide212.xml" ContentType="application/vnd.openxmlformats-officedocument.presentationml.slide+xml"/>
  <Override PartName="/ppt/slides/slide211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210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E57-2A4D-44D8-9382-AD3EA942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755C-EDA6-4262-90AF-07D55865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F5A1-709B-41CD-8255-D2C4F87F3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F7E-E908-4BD1-A72C-194032E6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5255-9AC1-4736-9E0A-91D518A2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53D1-98DF-4DA2-909F-F8D1A269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3920-B15C-4681-B59C-4B5ACB58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7125-72ED-47FD-86A6-482B3DDF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2725-5499-4DDF-9E01-7943B782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2E60-D198-4E4A-B70D-276DA1A6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10E5-33FE-439E-A68B-9FA2983F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85ED-95B3-4F62-B8F2-72477AC4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DB64-C52C-44C4-BF10-BF49E7C5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39B0-F6BD-49CB-9E85-665C9723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1AD9-4C97-4A0C-B543-08439D52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9CE4-DE21-472A-B9BF-454631CB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2F89-D8B1-41EC-931C-F9D27EBF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1284-45AF-468B-B6DD-A1964BFC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2FA7-7F10-4574-AE4C-61235E83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D2AC-60CA-4E99-B773-EBE7DAE3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83B-8B7C-42EA-8100-C0532E30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1080-200C-4433-8FF9-0CA0079D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B5C-C2A5-44D7-99C0-88F0E2D3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FF6-EA4C-4E82-A0C3-806CFE2F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6666ff"/>
          </a:solidFill>
          <a:ln w="93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4DF8-1CE3-4305-829A-4ECFFD88CB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9"/>
          <p:cNvGrpSpPr/>
          <p:nvPr/>
        </p:nvGrpSpPr>
        <p:grpSpPr>
          <a:xfrm>
            <a:off x="0" y="5994360"/>
            <a:ext cx="7848720" cy="857160"/>
            <a:chOff x="0" y="5994360"/>
            <a:chExt cx="7848720" cy="857160"/>
          </a:xfrm>
        </p:grpSpPr>
        <p:sp>
          <p:nvSpPr>
            <p:cNvPr id="7" name="Freeform 10"/>
            <p:cNvSpPr/>
            <p:nvPr/>
          </p:nvSpPr>
          <p:spPr>
            <a:xfrm>
              <a:off x="2362320" y="599436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" name="Group 11"/>
            <p:cNvGrpSpPr/>
            <p:nvPr/>
          </p:nvGrpSpPr>
          <p:grpSpPr>
            <a:xfrm>
              <a:off x="3946680" y="5994360"/>
              <a:ext cx="3902040" cy="857160"/>
              <a:chOff x="3946680" y="5994360"/>
              <a:chExt cx="3902040" cy="857160"/>
            </a:xfrm>
          </p:grpSpPr>
          <p:sp>
            <p:nvSpPr>
              <p:cNvPr id="9" name="Freeform 12"/>
              <p:cNvSpPr/>
              <p:nvPr/>
            </p:nvSpPr>
            <p:spPr>
              <a:xfrm>
                <a:off x="6267600" y="600552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3"/>
              <p:cNvSpPr/>
              <p:nvPr/>
            </p:nvSpPr>
            <p:spPr>
              <a:xfrm>
                <a:off x="4249800" y="599436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4"/>
              <p:cNvSpPr/>
              <p:nvPr/>
            </p:nvSpPr>
            <p:spPr>
              <a:xfrm>
                <a:off x="4809960" y="615456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5"/>
              <p:cNvSpPr/>
              <p:nvPr/>
            </p:nvSpPr>
            <p:spPr>
              <a:xfrm>
                <a:off x="5759280" y="611172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6"/>
              <p:cNvSpPr/>
              <p:nvPr/>
            </p:nvSpPr>
            <p:spPr>
              <a:xfrm>
                <a:off x="3946680" y="610056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4" name="Freeform 17"/>
            <p:cNvSpPr/>
            <p:nvPr/>
          </p:nvSpPr>
          <p:spPr>
            <a:xfrm>
              <a:off x="0" y="599436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" name="Group 18"/>
          <p:cNvGrpSpPr/>
          <p:nvPr/>
        </p:nvGrpSpPr>
        <p:grpSpPr>
          <a:xfrm>
            <a:off x="627120" y="6002280"/>
            <a:ext cx="5684760" cy="849240"/>
            <a:chOff x="627120" y="6002280"/>
            <a:chExt cx="5684760" cy="849240"/>
          </a:xfrm>
        </p:grpSpPr>
        <p:sp>
          <p:nvSpPr>
            <p:cNvPr id="16" name="Freeform 19"/>
            <p:cNvSpPr/>
            <p:nvPr/>
          </p:nvSpPr>
          <p:spPr>
            <a:xfrm>
              <a:off x="1898640" y="600228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3084480" y="605952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Freeform 21"/>
            <p:cNvSpPr/>
            <p:nvPr/>
          </p:nvSpPr>
          <p:spPr>
            <a:xfrm>
              <a:off x="2905200" y="604980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2"/>
            <p:cNvSpPr/>
            <p:nvPr/>
          </p:nvSpPr>
          <p:spPr>
            <a:xfrm>
              <a:off x="1357200" y="608004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3"/>
            <p:cNvSpPr/>
            <p:nvPr/>
          </p:nvSpPr>
          <p:spPr>
            <a:xfrm>
              <a:off x="1120680" y="609912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4"/>
            <p:cNvSpPr/>
            <p:nvPr/>
          </p:nvSpPr>
          <p:spPr>
            <a:xfrm>
              <a:off x="627120" y="603072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" name="Group 25"/>
          <p:cNvGrpSpPr/>
          <p:nvPr/>
        </p:nvGrpSpPr>
        <p:grpSpPr>
          <a:xfrm>
            <a:off x="0" y="6470640"/>
            <a:ext cx="9144000" cy="380880"/>
            <a:chOff x="0" y="6470640"/>
            <a:chExt cx="9144000" cy="380880"/>
          </a:xfrm>
        </p:grpSpPr>
        <p:graphicFrame>
          <p:nvGraphicFramePr>
            <p:cNvPr id="23" name="Object 26"/>
            <p:cNvGraphicFramePr/>
            <p:nvPr/>
          </p:nvGraphicFramePr>
          <p:xfrm>
            <a:off x="0" y="6470640"/>
            <a:ext cx="45720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" name="Object 2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470640"/>
                      <a:ext cx="4572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5" name="Group 27"/>
            <p:cNvGrpSpPr/>
            <p:nvPr/>
          </p:nvGrpSpPr>
          <p:grpSpPr>
            <a:xfrm>
              <a:off x="457200" y="6470640"/>
              <a:ext cx="8686800" cy="380880"/>
              <a:chOff x="457200" y="6470640"/>
              <a:chExt cx="8686800" cy="380880"/>
            </a:xfrm>
          </p:grpSpPr>
          <p:pic>
            <p:nvPicPr>
              <p:cNvPr id="26" name="Picture 28" descr="hi-res-iop-logo"/>
              <p:cNvPicPr/>
              <p:nvPr/>
            </p:nvPicPr>
            <p:blipFill>
              <a:blip r:embed="rId4"/>
              <a:stretch/>
            </p:blipFill>
            <p:spPr>
              <a:xfrm>
                <a:off x="5486400" y="6470640"/>
                <a:ext cx="365760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" name="Text Box 29"/>
              <p:cNvSpPr/>
              <p:nvPr/>
            </p:nvSpPr>
            <p:spPr>
              <a:xfrm>
                <a:off x="457200" y="6470640"/>
                <a:ext cx="5029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© WHO Collaborating Centr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6666ff"/>
          </a:solidFill>
          <a:ln w="93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5" name="Group 8"/>
          <p:cNvGrpSpPr/>
          <p:nvPr/>
        </p:nvGrpSpPr>
        <p:grpSpPr>
          <a:xfrm>
            <a:off x="0" y="6470640"/>
            <a:ext cx="9144000" cy="380880"/>
            <a:chOff x="0" y="6470640"/>
            <a:chExt cx="9144000" cy="380880"/>
          </a:xfrm>
        </p:grpSpPr>
        <p:graphicFrame>
          <p:nvGraphicFramePr>
            <p:cNvPr id="66" name="Object 1024"/>
            <p:cNvGraphicFramePr/>
            <p:nvPr/>
          </p:nvGraphicFramePr>
          <p:xfrm>
            <a:off x="0" y="6470640"/>
            <a:ext cx="45720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" name="Object 102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470640"/>
                      <a:ext cx="4572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" name="Group 10"/>
            <p:cNvGrpSpPr/>
            <p:nvPr/>
          </p:nvGrpSpPr>
          <p:grpSpPr>
            <a:xfrm>
              <a:off x="457200" y="6470640"/>
              <a:ext cx="8686800" cy="380880"/>
              <a:chOff x="457200" y="6470640"/>
              <a:chExt cx="8686800" cy="380880"/>
            </a:xfrm>
          </p:grpSpPr>
          <p:pic>
            <p:nvPicPr>
              <p:cNvPr id="69" name="Picture 11" descr="hi-res-iop-logo"/>
              <p:cNvPicPr/>
              <p:nvPr/>
            </p:nvPicPr>
            <p:blipFill>
              <a:blip r:embed="rId4"/>
              <a:stretch/>
            </p:blipFill>
            <p:spPr>
              <a:xfrm>
                <a:off x="5486400" y="6470640"/>
                <a:ext cx="365760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Text Box 12"/>
              <p:cNvSpPr/>
              <p:nvPr/>
            </p:nvSpPr>
            <p:spPr>
              <a:xfrm>
                <a:off x="457200" y="6470640"/>
                <a:ext cx="5029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© WHO Collaborating Centr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6034-0400-448E-B24F-55D61B03C8C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38EC-0945-4516-9B04-A49514F9C0F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Verdana"/>
              </a:rPr>
              <a:t>UNIT 4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MMON MENTAL DISORD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his unit will cove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general features of  CM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pecific disord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726C-A3C1-46C1-8BD5-027A4A6CFBF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epression Checklist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sk patient and also care giver about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6666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ow mood or sadn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6666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oss of interest or pleasu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6666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oss of energy/more tired than usu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f ‘yes’ to any of these, continue as next slide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if ‘no’ the patient is unlikely to be depresse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95F1-F5B9-4A0F-8FB0-0C72CF1D253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lcohol Checklist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Number of units of alcohol in a typical day when drink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Number of days per week having alcoholic drink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otal quantity =A x B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E075-E235-4A83-B082-4FCFA006F6E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lcohol Checklist - continue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f drinking is above limit, or if there is a regular or hazardous pattern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sk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ve you been unable to stop, reduce or control your drinking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ve you ever felt you cannot resist a strong urge to drink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4B23-9630-435E-8F10-A45B00D5DC4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lcohol Checklist - Continue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Has stopping or cutting down drinking ever caused you problems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the shak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being unable to slee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feeling nervous or restles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sweat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heart beating fas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headach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fit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0B1C-FF2F-4650-B9F2-0DE6594BB14B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lcohol checklist - continue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ve you ever continued to drink although you know it will make problems worse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s anyone said they are worried about your drinking eg your family or friends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2BF8-57EB-47B5-99BA-90E9759740F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lcohol Checklist: summing up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f A x B is over the recommended limit, it will lead to social and physical har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f A x B is over the recommended limit and positive to 1-5, there is  alcohol dependenc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45F7-EC26-47A1-B52E-2D218FFFCBB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What to tell the patient and family: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Alcohol misuse  is a serious illnes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There may be family histor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Do not get into argument about whether or not patient is dependent-it is the sheer quantity which causes harm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Dependence is only important in that it makes reduction difficult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Stopping or cutting down on drinking will bring benefits and enables some recovery of body organ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Drinking whilst pregnant can harm the bab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Giving up alcohol is not easy – success depends on the patient wanting to give up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2A6B-9095-4DEC-AED4-9A35D78B406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How to help the patient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plain the dangers of drinking and the benefits of giving u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or patients willing to stop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et a definite date to sto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plain withdrawal symptom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lan how to avoid situations where he/she is likely to drin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dentify friend or family member who will provide suppor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382D-7580-46EF-B066-9A57758F957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How to help: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Give advice on healthy eat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Give encouragement, not blam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or patients who relapse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Give praise for succe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dentify cause of failure and plan to avoid this next tim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eturn to first steps and try agai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DC17-E681-4571-AD48-DE0E2818A4D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For patients not willing to stop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o not reject or blam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plain the problems caused by alcoho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gree a further assessment in the futur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EFBE-F40D-4281-A658-F7FF6C6B55F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Note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atients with serious alcohol dependence and other severe health problems may need specialist care if availa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1D44-5657-4107-B56E-B15D5D2E5A3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epression Checklist: continue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8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485280" indent="-4852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isturbed sleep – difficulty falling asleep, waking early in the mor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85280" indent="-4852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isturbed appetite – either more or less than usu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85280" indent="-4852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oor concent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85280" indent="-4852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gitation or slowing of movement or spee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85280" indent="-4852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oss of interest in se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85280" indent="-4852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oss of self-confidence or self-este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85280" indent="-4852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oughts of death or suici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85280" indent="-4852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Feelings of guil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8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8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epression is likely if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ositive to A, B or C and at least four positive from 1-8 occurring most of the time for 2 weeks or mo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8267-7C26-4C76-890F-C46A21A52F0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lcohol role pla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lease make up a scenari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veryone to take par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emonstrate assessment of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quantity, frequency and type of alcoho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sychological , physical and social problem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egotiating manage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79CA-B12B-4167-B5AD-11972E126D7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11 DRUG ABUSE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ee page 41 of WHOPHC guidelin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3D25-4162-4AE9-9D72-93E8CFCA48A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resenting complaint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epression, nervousness, insomni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equest for drug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equest for help to with draw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toxicat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ithdrawal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hysical complications eg abscess, thrombosi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4E5A-E86A-490B-AEE1-B70936113F1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agnostic features 1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hysical harm-eg injuries while intoxicate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sychological harm-eg symptoms of mental disord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ocial harm-eg loss of job, family problems, criminali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1866-875F-48D3-89A1-C86E8CEC739B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agnostic features 2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bitual/harmful/chaotic drug u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fficulty controlling drug u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trong desire to use drug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olerance (can use large quantities without appearing intoxicate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ithdrawal eg anxiety, tremors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484B-6D92-49E7-A403-310D658A9F3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agnosi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istor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aminat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vestigations (HB, LFTs, urine drug screen, hepatitis B and C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AE38-F53E-4438-8B8F-E4FDBC12A07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Essential information for patient and family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rug misuse is a chronic , relapsing problem. Often requires several attempts to sto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bstinence is long term goal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rm reduction (stopping injection) is importan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topping/reducing brings benefit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rugs in pregnancy harms the bab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4510-39B7-4980-95FD-438B9946478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Advice and support to patient and family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scuss costs and benefit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formation about heath risk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ersonal responsibility to chang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lear advice to chang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ssess and manage physical health problem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roblem solv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4FF8-01A6-412C-AFF8-064569E376D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o not reject or blam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dvise on harm reduction strategi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oint out harm caused by drug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egotiate goals for reduction /stopp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iscuss strategies for avoiding high risk social/stressful situa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elf monitoring through diar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Gradual withdraw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2489-659E-4295-9B5F-557553B6D9DA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ubstance abuse role pla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lease make up a scenari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veryone to take par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emonstrate assessment of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quantity, frequency and type of substanc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sychological , physical and social problem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egotiating manage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0EF9-9D79-4A6F-BD3C-85BE554F76E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o is at most risk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eople who hav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xperienced adverse life events and social difficulties, for example, unemployment, single parents, homeless people, people who have no-one to confide 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d depression or another psychiatric illness befo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hronic physical illness or disabi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ecently given bir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mily history of depression,  suicide attempts and substance abu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BE12-68A9-41A1-AE51-03614E7D7A4B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12. ACUTE PSYCHOSI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ee page 42 of WHOPHC guidelin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What the patient may complain of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Hallucinations (eg hearing voices when no-one is there, seeing visions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Strange beliefs or fea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Being afraid or confuse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Family members may ask for help with changes in behaviour which cannot be explained e.g withdrawal, suspiciousness, self-neglect or threat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DE84-6A71-4218-85B5-53A169A1D848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agnostic feature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llucination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elusions (firmly held beliefs not shared by others in patient’s social, cultural or ethnic group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sorganised or strange speech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gitation or odd behaviou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treme and very changeable emotion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BD54-A52C-4F0D-9DCD-F47FE2A9924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Note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sychotic symptoms can sometimes be caused by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isuse of some drugs eg khat, amphetamines, cocaine, cannabi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lcoholis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fectious illness causing very high temperatur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pilepsy, brain abscess, tumour or other brain disea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EA6C-6DC4-469F-B04E-C0A3597B2D6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tell patient and family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gitation and strange behaviour can be symptoms of mental illne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eople often get better from thi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No-one is to blame for the illne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7C2B-3D73-43B0-9368-C9129B8A4AE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ake sure that patient and whoever cares for them are saf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ake sure patient’s basic needs are met eg enough to eat and drink, somewhere to liv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o not cause the patient too much stress; do not argue with the patient’s beliefs even if you think they are wro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o not criticise or confront the patient unless it is necessary to prevent them doing something to hurt themselves or othe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5F34-1C13-499C-9192-D198C129B448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Verdana"/>
              </a:rPr>
              <a:t>Provide support and encouragement to patient, family and local community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Verdana"/>
              </a:rPr>
              <a:t>Mobilise community to give social support to people with severe and long term illnes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Verdana"/>
              </a:rPr>
              <a:t>Mobilise CHW and public health technicians to organise sustained community support to patient and family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Verdana"/>
              </a:rPr>
              <a:t>Outreach and home visit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Verdana"/>
              </a:rPr>
              <a:t>Encourage patient to return to normal activities as soon as possible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Verdana"/>
              </a:rPr>
              <a:t>Advise patient not to take drugs or drink alcoho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Verdana"/>
              </a:rPr>
              <a:t>Refer to specialist if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ignificant risk of suicide, violence or negle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fuse to take medi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fuse to stop misuse of alcohol or drug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E9BD-7C46-4012-A7B5-D0AA175492B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If prescribing medication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hlorpromazine available in PHC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Use lowest dose possible to control symptom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vide support and supervision to ensure patient takes medic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onitor side-effects – treat as necessar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Continue medication for at least 6 months after symptoms resolv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88D7-D6FC-4F16-B37F-DD112669D88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13. BIPOLAR DISORDER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ee page 44 of WHOPHC guidelin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atients may have episodes of depression, often severe; and at other times episodes of extreme excitement, called mani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atients may not realise they are ill (“lack of insight”). Relatives may be the first to complain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FF1D-FEC8-4F7B-ACF0-85227D22735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is Mania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ania is a period of very high or irritable mood lasting at least a week and which is severe enough to disrupt work and social activities completely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 hypomania, symptoms may be present, but less severe and less disruptiv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lus at least three of the following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43F1-301B-4F19-B0FF-E5BDDDE6E48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is Mania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ncreased activity or restlessn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Rapid speech which is difficult to interrup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ncreased speed of think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ncreased self esteem or grandiose idea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eed for  less sleep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asily distracte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oss of inhibitions eg being unusually tactless or rude; making inappropriate sexual advances to strangers; buying expensive goods that are not needed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2ED0-C0B1-402D-ABFF-7A21D370FF6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Assess risk of suicide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What do you think about lif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300" spc="-1" strike="noStrike">
                <a:solidFill>
                  <a:srgbClr val="ffffff"/>
                </a:solidFill>
                <a:latin typeface="Verdana"/>
              </a:rPr>
              <a:t>Do you ever feel  that life is not worth living?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Do you ever  feel hopeles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Do you ever feel you would rather be dea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Have you thought of killing yourself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Have you thought how you would do i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Have you tried to kill yourself befor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Have you given away any of your possessions?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Is the patient likely to act on the plan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If patient is making active plans to kill himself, this patient is at high risk and will need close supervision,  from family, friends and  health professionals.  If possible, refer to a specialist 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B77F-3AE7-4D3E-95FD-4D357E5DA11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For depressive episodes, use depression slid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For episodes of mania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For general advice, see slides on Acute Psychosis; similar medication may be used to control over-excite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ote: some patients will have only one episode of mania or depression and recover completely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2BCF-A56C-4BBA-8FE8-10EEF5FA46B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or patients who have repeated episodes of mania and/or depression, specialist psychiatric help may be required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arbemazepine to prevent relaps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03BD-1DE6-4645-B2B5-8980935740E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14. SCHIZOPHRENI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ee page 46 of WHOPHC guidelin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772A-6999-4C03-95E2-41AA0BCB36D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is it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Common serious mental illness characterized by </a:t>
            </a:r>
            <a:r>
              <a:rPr b="0" lang="en-GB" sz="2600" spc="-1" strike="noStrike" u="sng">
                <a:solidFill>
                  <a:srgbClr val="ffffff"/>
                </a:solidFill>
                <a:uFillTx/>
                <a:latin typeface="Verdana"/>
              </a:rPr>
              <a:t>distortion of thinking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and perception and usually accompanied by </a:t>
            </a:r>
            <a:r>
              <a:rPr b="0" lang="en-GB" sz="2600" spc="-1" strike="noStrike" u="sng">
                <a:solidFill>
                  <a:srgbClr val="ffffff"/>
                </a:solidFill>
                <a:uFillTx/>
                <a:latin typeface="Verdana"/>
              </a:rPr>
              <a:t>inappropriate or blunted emo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Thought disord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Lack of insigh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Detachment from real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Delus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Hallucina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2BB1-9FA3-4A47-B326-502BFCAC9E7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resenting problem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dividuals may have problems with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Hearing voices when no-one is aroun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trange belief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isturbance with thinking or concentr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anaging daily activities including meeting own physical needs e.g washing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anaging social interactions, work or studi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A460-3B3A-4AB8-8C11-406E2F321EC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resenting problem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amilies may ask for help with the individuals’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trange, frightened or annoying behaviour (e.g. irritability, suspiciousness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pathy, withdrawal or poor living skill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4429-EFB3-410C-83E0-58D8654EB3C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agnosi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e client must show the signs and symptoms for at least a month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Verdana"/>
              </a:rPr>
              <a:t>Hallucinations</a:t>
            </a:r>
            <a:r>
              <a:rPr b="0" lang="en-GB" sz="2600" spc="-1" strike="noStrike" u="sng">
                <a:solidFill>
                  <a:srgbClr val="ff6600"/>
                </a:solidFill>
                <a:uFillTx/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seeing, hearing, sensing or tasting things that other people do not see, hear, smell or tast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Voices talking about pati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Verdana"/>
              </a:rPr>
              <a:t>Delusions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e.g. a person may believe that he or she is Jesus or the, Virgin Mary; or he or she is being followed, poisoned or experimented upon or controlle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AF89-A6DA-4990-97DB-1686336022E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agnosis Continued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Verdana"/>
              </a:rPr>
              <a:t>Thought interference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in which the person believes that thoughts are being inserted into or withdrawn from the mind; are being broadcast to others; or are being echoed in the mind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Verdana"/>
              </a:rPr>
              <a:t>Disordered thinking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resulting in incoherent or irrelevant speech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Verdana"/>
              </a:rPr>
              <a:t>Negative symptoms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include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Extreme apath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Blunted or inappropriate affe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Loss of initiative and driv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Social withdraw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80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A6F4-16AE-4ABF-834C-E35C4ABE2B1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fferential diagnosis: What to do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orough assessment to exclude organic factor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Verdana"/>
              </a:rPr>
              <a:t>Substance abuse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can present  with delusions, hallucinations and abnormal speech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Verdana"/>
              </a:rPr>
              <a:t>Severe (psychotic) depression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can presents with delusions and auditory hallucinations (voices talking to patient)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Verdana"/>
              </a:rPr>
              <a:t>Mania</a:t>
            </a:r>
            <a:r>
              <a:rPr b="0" lang="en-GB" sz="26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lso present with delusions and hallucinations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984C-8840-427E-B7F5-CCB19E485B5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Course of Schizophrenia </a:t>
            </a:r>
            <a:br>
              <a:rPr sz="3800"/>
            </a:b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1. Prodromal stag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A general loss of interes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Avoidance of social interac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Avoidance of work or study (dropping out of school, work, college etc.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Being irritable and oversensitiv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Odd beliefs (e.g. superstitiousness)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Odd behaviour (e.g. talking to self in public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6EEF-C4CB-4EAF-BEF6-388326F93188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Explain ‘depression’ to the patient and their family  stressing that its treatable and not a weaknes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Give advice on good health: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at a healthy di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ake regular exercise (proven to help depress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ut down on alcohol; don’t take drugs; do not smok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ut down on caffeine (coffee, te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epressed people may not think so clearly about personal safety so reinforce Safe Sex message –use a cond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ncourage patient to talk to fami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d frie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2401-2627-4394-B0BF-658CCF55030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Course of Schizophrenia         2. active phas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sychotic symptoms such as delusions, odd behaviour and hallucinations are prominen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Often accompanied by strong affect as distress, anxiety, depression and fea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3C28-BF94-44BE-8170-6CF2FB296ADB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Course of schizophrenia </a:t>
            </a:r>
            <a:br>
              <a:rPr sz="3400"/>
            </a:b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3. Residual phase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imilar to prodromal pha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Blunted affect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mpairment of role function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83AD-FBF1-4363-8D08-4DEBB69EB10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Management of acute episode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1. think Bio-Psycho-Social 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2. maximize the safety of the individual and oth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3. reduce symptoms of psychosis and disturbed behaviou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4. build a therapeutic relationship with the individual and family (carers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5.develop management plan to aid recovery from acute episod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F5DF-8619-4013-AB23-09E1A9243E7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Maximizing safety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ork as a tea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ssess the risk of harm to self and oth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emove dangerous objects that might be used to either self harm or harm oth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he patient may need to be observed for some time at the PHC premise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690E-2FAE-42B2-BF56-B38A3E852E8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Reduce symptoms and disturbed behaviour 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nti-psychotic medica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Chlorpromazine 50-600 mg daily (50-200mg three times a da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Fluphenazine deaconate 12.5 – 25.50 mg monthl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7A79-DAE9-473F-BB87-ACCA98BE2C9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ide effects of Anti-psychotics 1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kathisia- an intense feeling of restlessness in legs. Tend to relentlessly and feel unable to sit stil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arkinsonism – muscle stiffness, rigidity of the arms and legs, Tremors especially of hands, loss of facial expression, slowed movement or akinesia, stooped postu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ardive dyskinesia- abnormal involuntary movements of the face, eyes, mouth, tongue, trunk and /or limbs occurring after 6 months to 2 years or more after commencing medic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C909-4464-4619-85DF-B631D30780E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ide effects of Anti-psychotics 2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6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Verdana"/>
              </a:rPr>
              <a:t>The eyes roll up and the individual is unable to look down (Oculogyric crisis or look-ups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6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Verdana"/>
              </a:rPr>
              <a:t>Spasms of the neck muscles where the neck is flexed backwards or to the side (Torticollis or retrocollis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6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Verdana"/>
              </a:rPr>
              <a:t>Spasms of the jaw muscles, tongue and flow of the mouth (Trismus or lock-jaw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6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Verdana"/>
              </a:rPr>
              <a:t>Laryngeal spasms which may cause difficult in breathing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2916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E3A3-D276-474B-9E34-4FE4BB2EAF6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Monitoring, Recognizing and Managing side effect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edication side effects can be extremely disabling and distressing, and a major reason for lack of adherenc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ome side effects can be eliminated, reduced in severity, or made more tolerable using a range of simple strategi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Decreasing the do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Taking divided do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Taking medication with appropriate foo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Taking extra medication to conteract side effects e.g. Benzhexol (Artane, Broflex) 2-15mg daily, Benztropine (Cogentin) 0.5 –6mg dail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8BA5-43A4-4160-84EC-EE842BBB2F78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oints to remember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ntipsychotics  can take several weeks to reach full effec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n brief psychoses, treatment may be reduced gradually after 2 weeks. If symptoms recur, return to original dose, continue for 3 months and then withdraw them again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reat Schizophrenia for at least  a yea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reat mania until symptoms subside and for 3 months thereafter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6F78-26B0-4701-986C-5A4FBA696E1B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Reducing symptoms and disturbed behaviour on long term basi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sychological intervent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ow stimul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ow str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Minimize stressors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Avoid arguing with the individual on delusional ideas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Avoid confrontation or criticism unless necessary for preventing harmful or disruptive behaviour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9397-C720-4BBD-8439-8996F0B8572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elp the patient identify stresses or problems in their life and make plans to deal with them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t short term go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eview regularly with pati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void major decisions or life chang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Help patient plan short term activities which will give pleasu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FD29-EE47-4A3D-AB44-1BAA4F6BFF7B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Reducing symptoms and disturbed behaviour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High levels of suppor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Show empathy and concern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Develop trusting relationship with the client and family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Psycho-education to minimize anxiety and confusion, to individual, family and community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Protecting social relationships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C248-5FC6-4A5F-8301-4B68B0B856C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Building a therapeutic relationship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ealth worker-patient and family relationshi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ocial network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ngage community health work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ngage communi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367C-24E8-46A1-9485-AC9B0E49D7F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Building therapeutic relationship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ole of social relationships in  recovery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pressing emotions and receiving reassuranc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eality test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ractical feedback from oth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onstancy in relationship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upport from famil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8C28-BF04-43F9-BC9D-711B508ECE0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Long-term management of Schizophrenia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ong term management crucial to improve the health and social functioning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tructured Problem solving: to reduce, minimize and help control stress and anxiety in daily living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Communication skill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hysical health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ifestyles- dietary habits, smoking, alcohol consump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dherence to medic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A0B1-1796-4BB5-927A-1B5FAA12416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Long-term managemen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ollow-up including home visit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ehabilitation- work skill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elf-help group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ommunity suppor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DEA3-75E9-48CA-8467-6E0C6C6C537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Psychosis-prepare some management plan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D4D1-78CE-41DB-BE49-ADFB2117C6B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sychosi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Vide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ole play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623A-94BD-4871-AAA4-C17F999686E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4.15 CHILDHOOD AND ADOLESCENT DISORDERS - Overview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10-20% of young people may have mental or emotional disorder warranting treatment at any one tim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any psychiatric disorders have an onset during childhood and adolescence, and so impair education and vocational choice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62FD-4F24-4101-B8C7-9416DC584C4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evelopmental influence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telligenc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emperamen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amily environment including relationship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altreatmen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arental ill-health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hronic and severe physical illne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6A29-2C05-4538-AC0E-5E4297C2D19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Issues in assessing children and adolescent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Obtain information from several informants e.g. Parents, school teache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ystematically assess all potential areas of psychopatholo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Achievement of developmental mileston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Fears, phobia, obsess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Depressive symptom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Inattention, impulsivity, excessive activ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Aggressive, delinquent, and rule breaking conduct e.g. steal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Problems with learn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D01E-B548-47F5-BF14-42C79087478B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42880" indent="-542880">
              <a:spcBef>
                <a:spcPts val="601"/>
              </a:spcBef>
              <a:buClr>
                <a:srgbClr val="6666ff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f depression has lasted 4 weeks or more and is affecting the patient’s ability to cope with daily life, medication may be necessar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80160" indent="-41616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mitryptyline if patient is anxious or can’t slee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80160" indent="-41616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mipramine if patient is letharg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80160" indent="-41616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tart with  25mg daily, and gradually build up to 50-75 mg a d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80160" indent="-41616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50mg a day will work eventual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80160" indent="-41616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75mg a day will work quicker if can tolerate side effec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4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27B4-30F0-4C0D-8885-1C4F6C701F7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ssessing children and adolescent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853200" indent="-41004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Bizarre or strange ideas and behaviou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Use of alcohol and drug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Relationships with parents, siblings and peer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sk about abuse and suicidal behaviou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etermine the significance of symptoms given the child’s ag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ssess impairment in function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dentify strengths and resources in the child and famil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etermine the quality of the family environ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Conduct Mental State Examin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41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74D7-991F-4C7C-9AEC-8A4D24974F5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Common childhood and adolescent disorders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motional disord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epress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nxie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onduct disord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DHD- Attention Deficit and Hyperactivity Disord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ruanc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yslexia- Difficult with studi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66B1-8B00-434E-8735-EC4AA0933ED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16. EMOTIONAL DISORDER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See page 54 of WHOPHC guideline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Depression- A common problem in adolescent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Often presents with physical symptoms, frequently related to school work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Common features: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Headache and other aches and pai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ifficulty in concent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oor slee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Loss of appeti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Withdrawing from family and frien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0187-94F2-4505-ABEB-EEF25EADACD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epression features continue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eeling bad about oneself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Becoming moody and irrita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eeing life is pointle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uicidal feelings and ide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rritabili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E93F-0723-4C86-BBC0-6996C3D2148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Effects of Depression in adolescents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oor school performanc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oor relationship with family and friend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creased risk of self harming (even suicide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rug or alcohol misu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0EBC-E18F-4B99-A711-E2C07B9BE6A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ssess the situation with parents and adolescent to identify the problem and cause and meaning of the problem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How has your health been recently? –sleep, concentration and emotion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Have you been worried about anything recently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Have you shared these worries or concerns with anyone else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Have you felt like ending your life? How often? Since when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Has anyone hurt you recently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Have you been drinking alcohol or taking drugs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A016-41DF-454A-95CD-981916A50D5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Listen to the adolescent’s account of his/her feelings and concern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elp the adolescent to make the link between his/her feelings and stressful situation is facing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uggest that you could talk to his/her parents (and teachers, if possible) and share the concerns with them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ake practical suggestion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05C4-E32C-46FE-AF83-7C28EBFFE07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each the adolescent problem-solving techniques to cope with stre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dvise not to use alcohol or drug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ollow-up review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f none of the above steps help, give anti-depressants. E.g. Amitriptyline 25mg Orally at nigh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22E9-B683-4EDF-9C71-5B77801ED45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Emotional disorders in children and adolescents-Discus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ve you seen these problems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ow have you intervened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else do you think you can do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B0CA-D35D-4C3E-A77D-6CBE5A667A2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4.17. CONDUCT DISORD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ee page 55 of WHOPHC guideli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E467-EB04-4493-8B4B-69AC3EA4ED9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ll patient and relative 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ake medicine every day, and supervi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It will take two or three weeks before he/she starts to feel better and six weeks before recover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Continue with medicine for at least four month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Do not stop taking the medicine suddenl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here will  be side effects at first, but these will be manageable if explained in advan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ake dose twice a day or all  at night to manage sedative effec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p water regularly to manage dry mouth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B Caution with antimalarials as tricyclic antidepressants and chloroquine both prolong cardiac QT interval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o not give if known or suspected  heart disease. Consider new antimalarial, or discontinue antidepressant while antimalarial taken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77E9-4779-49D5-BE0F-0F150F96AF4B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Definition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mpaired functional behaviour characterized by constant conflict with adults and other children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ntisocial behaviour leading to exclusion from school or trouble with the law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1340-C362-4C4C-9CFC-8225ECB32BF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auses/Factor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raumatic life experien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ejection or emotional abu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arsh punishmen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ostil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roken relationship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tic vulnerabil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ack of positive joint activities with the chil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sufficient prai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oor monitoring of the whereabouts of older childr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chool failu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6736-B7BC-40C9-8ED4-C2BEF202E5C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resenting complaint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ggression to people and animal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ullies, threatens or intimidates othe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ften initiates physical figh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as used weapon that could cause serious physical harm to others (e.g. knife, stick, stone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hysically cruel to people or animal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teals from a victim while confronting them (e.g. assault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ay force someone into sexual activity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023C-AEE0-40E7-AA1E-25C0260D40B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resenting complaint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estruction of proper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liberately destroys other’s proper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liberately engaged in fire setting with the intention to cause dama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eceitfulness, lying or steal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Lies to obtain goods, or favor or to avoid obliga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eals items without confronting a victim (e.g. shoplift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reaks into  building, house or ca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respasses into someone else field and cause destruc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F42B-FB75-4715-A69B-DC76674CDDB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resenting complaints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rious violation of rules and regulation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ften stays out at night despite parental objec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ften truant from schoo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uns away from schoo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ay be involved in gang groups; take drug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ED7E-6E7C-4FD5-9C89-066670C0DFA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Diagnostic feature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petitive, persistent and excessive antisocial, aggressive or defiant behaviour lasting six months or mor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ppositional-defiant disorder in young childr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ngry outburs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Loss of temp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efusal to obey commands and rul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structivenes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itt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7349-F36A-49D3-86FD-48DB8007D59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Diagnostic feature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 older children and adolescen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andal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ruelty to people and animal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ully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Ly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ealing outside the home, sometimes in-hous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ruanc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rug and alcohol misu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riminal ac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ppositional-defiant behaviou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D3A7-C67E-4E5D-89B1-B8DEC99A8D5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Differential Diagnosis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ttention Deficit/hyperactivity disord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yperactivi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epressive disord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pecific reading retardation (dyslexia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Generalized learning disabili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utism spectrum disord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djustment react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890E-3E2F-4F12-B3A8-8B66A165A11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Remember: Antisocial behaviour is learnt and can be corrected by un-learning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Thorough history is essentia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Educate parents and the child on “effective communication” by: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Promote positive joint activities between parents and child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Encourage praise and rewards for specific agreed desired behaviours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Set clear house rules and give short specific commands about desired behaviour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Provide consistent and calm consequences for misbehaviour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Avoid arguments with the child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Monitor the whereabouts of teenager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et to know his/her friends and paren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heck with paren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Educate the child on: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Anger management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Goal setting, and self control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Work with parents and teachers where appropriate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Treat any co-existing condition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A02E-D2EE-4F85-8510-87C76E64F64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Conduct disorders-discus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ve you seen these problems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ow have you intervened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else do you think you can do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50FC-6757-469E-9B8F-B064D82DAD3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f available, some ‘talking treatments’ may be helpful, for exampl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ognitive behavioural therap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terpersonal therap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tructured Problem Solv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Referral to a specialist may be necessary if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ignificant risk of suicide or danger to others which cannot be managed safely at ho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f depression persists after a course of treatment in primary c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2E3F-0089-41D0-B22B-D7E650F3C33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18. ADHD (Attention deficit hyperactivity syndrome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resentation (p57 of WHOPHC guidelines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estless; unable to sit in a chair through a full less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Fidgety, chattering and interrupting peop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ifficulty in concentration or paying attention e.g. unable to complete home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asily distracted and not finish what they have start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mpulsive- suddenly doing things without thinking fir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Unable to wait their turn in games or in talking to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xtremely demand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roblems with learning and stud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isorganized and untid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0EFC-684D-423E-B1D7-3C6368549FB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Effect of ADHD in child’s life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t hom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Difficulty to discipli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Irritates parents with his impulsive behaviour and not listening to the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t schoo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Poor performance in studi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Irritate his teacher with his inability to sit quietly and interrupting the class      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t pla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Irritates his pe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F943-5D7A-49E0-B352-F3D1F2E8814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DHD: What to do 1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 thorough history and assessmen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Educate and support parents on dealing with the chil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aintain consistency and structure: routines, stated expectations of behaviour family rul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t realistic expectations, short-term goals and praise succe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AE2D-BF40-42EA-95CD-E69E2AFCA80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DHD What to do 2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mote positive interactions with the chil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Ensure adequate slee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Establish constructive communication with schoo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Keep confrontations to a minimu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Refer for specialist care if no improvemen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AF31-532D-467C-926D-2C9421B5057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19. Dyslexia: Learning difficultie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age 58 of WHOPHC guidelin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earning difficulty  that affects  ability to read or deal with numbers , irrespective of intelligenc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blems with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Concentration, perception, and memor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Verbal skills, abstract reasoning, hand-eye coordin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Social adjustment (low self-esteem), poor grades, underachievement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819D-30FE-4D79-9443-AEF031643508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he child may have difficulties with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Copying, spelling and writ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Understanding instruc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umbers and mathemat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Read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Behaviour problem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A47F-52BA-4563-9CFB-40104641894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Cause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euro-biologic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ay be aggravated by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Large class siz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Poorly trained teach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Language not commonly used at hom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497A-84A5-4A7F-9E49-6EF1786B78C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Other Cause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ental retard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epress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Conduct disorde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ifficulties with hearing or vis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rug mis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+++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B113-155D-4788-8ECA-1109AC1DA9E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hat to do 1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emember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 dyslexic child is not stupid, dumb or thick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eachers, parents and mental health worker need to work together to help the child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1E7A-0BCF-4F0A-9606-AC5FEAD7CAE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 2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honetic reading and writing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xtra individual help with numeracy and literac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xtra time in exam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Continued suppor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yslexic children can be very intelligent, but get frustrated by their difficulti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Crucial to assist as much as possible as early as possible to enable children to progress educationall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7D09-ED15-43E6-A2B5-5A670E6BE3E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how video of depress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he video demonstrates assessment and management skill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here may  not be time to watch the whole video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lease allow enough time afterwards for the role plays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CDCA-2B65-416B-8211-B93A3C44B9A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hat to do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aison with school author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child should be helped to learn at her /his own pace with such help a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tra tutoring-but not too much to exhaust the chil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mework to be given early enough and left on the board long enough to ensure every child got it righ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sition the child in front seat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elping the child to learn through more than one of the sense (Multi-sensory teaching methods) including touch and moveme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FBAF-09FB-4739-ACA6-9473A24EC14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hat to do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arents should assist dyslexic children with assignmen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hildren should be helped to build self-confidenc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Let the child identify his strengths and weaknes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iscuss objectively and  build on strength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romote positive think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raise the child for all achievements, both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n-academic and academi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B: Dyslexic children are good at other things that are valuable in their life- build on that as well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AFB5-217A-46FC-9258-B004430104E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yslexia-discus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o you know anyone with dyslexi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do you think PHC can do to support children and parents and teachers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37DC-E686-40C9-8033-C1B3885C9AB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4.20. ASD (Autism Spectrum Disorder) 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e page 59 of WHOPHC guidelin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mpairment in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ommunication skill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ocial interac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stricted, repetitive and stereotyped patterns of behaviou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790E-4993-4920-BDF2-8940B828B9E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ause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Genetic facto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?abnormal brain development in early lif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EC3B-505D-4540-8638-907C6C30058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resenting complaint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arents may complain of obvious developmental problems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nresponsive to people, or focusing intently on one item for long periods of tim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utbursts of cry or screaming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009F-687D-406A-B20B-F9A4F1026E1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Diagnostic features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bnormal or impaired development before the age of 3 in at least one of the following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lective social attachment or reciprocal social interac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ceptive or expressive language, as used in social communic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stricted, repetitive and stereotyped pattern of behaviour- functional or symbolic pla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790C-2DE8-485C-B0D6-22C2B3162EFB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Diagnostic features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ocial difficulti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voids eye contact, seem indifferent to others &amp; prefers being alo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ifficulties in interacting reciprocally with others-slower in learning to interpret what others are thinking or feeling as such ma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278720" indent="-38736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Ignore other people or be insensitive to their needs, thoughts and feeling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ifficulties in seeing things from another perspectiv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ifficulties in regulating emotions e.g. crying in class or verbal outbursts that seem inappropriate to those around the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62C9-79A4-45CC-ADB0-33BBDDFB739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Diagnostic features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ommunication difficulti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layed language development with no effort do s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se of language in unusual ways-repetition of phrases or words over and ov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Young children may show little interest in the speech of oth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ifficulties in understanding body language, tone of voice, or phrases of speech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ifficulties in expressing own body language- facial expressions, movements and gestures rarely match what they are saying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ifficult to let others know what they nee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ome may remain mute throughout their liv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4CF3-4B32-4D2B-8752-9FD6F33F01D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Diagnostic features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Behaviour difficulti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dd repetitive motions e.g. flapping arms or walking on their toes. Some suddenly freeze in position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outinized behaviour, resistance to change- a slight change in any routine can be extremely disturbing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nusual persistent, intense pre-occupation or interests e.g. intellectual, ar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879E-FBAF-4CC3-87CF-EF8D430D0F5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UNIT 4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epressi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omatisation-hapa hapa syndro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nxiety, phobias and PTS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leep  disord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ating disord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exual disord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lcohol and substance abu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Acute psychosis, bipolar disorder, schizophren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hildhood emotional disord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hildhood conduct disord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yslex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DH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utis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Learning disabil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hild abu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83E6-F226-4190-9D2B-24CEC4F0CE1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Role play depress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ole play 8a and 8b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s always, everyone to take par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B2A1-FAA7-41AF-B299-8183D3BB316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Problems that may accompany ASD;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nsory problem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nsitivity to certain sounds, textures, tastes and smel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ental retardat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izur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4338-80D4-4311-908F-5BC5C32EDC6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Differential diagnosis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ttention-deficit/hyperactivity disord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earning disabili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Epileps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1971-03CC-49E8-89AB-4090D747456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hat to do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orough history on behavioral characterist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xclude other problems- thorough investiga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dentify patients strengths and potentials and build on the strength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amily education and ongoing suppor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goal is to help the child develop to the fullest potenti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7F6C-97FA-4937-A116-1B665D5468F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hat to do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hilds’ educational placemen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pecial schools vs mainstream with extra attention and assistan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Behavioural management to reinforce desirable behaviour and reduce undesirable on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3285-E29B-4F0F-A44B-BB6F8874FEF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hat to do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n effective treatment program will build on the child’s interest, predictable schedule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each tasks as a series of simple step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ctively engage the child’s attention in highly structured activiti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ovide regular reinforcement of behaviou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volve parents, teachers and other professionals e.g. social worke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6211-97C6-4C3F-A1AC-4AB160E59B9A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hat to do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hysical activity to develop coordination and body awareness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hildren string beads, place puzzles together, paint, and participate in other motor skills activiti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ocial interactions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ow to use langua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ructured activities that will help children learn social skills and functional communic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edic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Limited rol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reat co-existing problem e.g. epileps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317C-2C0A-4999-A118-F158FA11499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21. Learning disabilit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is is slow or incomplete mental development resulting i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6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Verdana"/>
              </a:rPr>
              <a:t>Difficulties in learning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6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Verdana"/>
              </a:rPr>
              <a:t>Problems with social adjustment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06AF-92AB-4280-9B61-B94A5C39E50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Learning disability-rang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here is a wide range of severity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Severe – the person will need help with daily tasks all their life and will only ever have very simple speech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Moderate – the person may be able to do simple work with support and will need guidance and support in daily tasks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Mild – the person will be limited in school work, but will be able to live alone and do some kind of paid work as an adult.</a:t>
            </a: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19A0-4886-4059-B20D-E551B605F95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Causes of learning disability 1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Genetic conditions such as Down’s syndrome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roblems before the child is born e.g. poor maternal nutrition, excess alcohol consumption during pregnancy, mothers’ infections during pregnanc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roblems during childbirth- e.g. Prolonged labour, birth traum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F66D-553F-42FC-81FA-7FD29425EE8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Causes of learning disability 2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roblems in the first year of life- e.g. infections of the brain, severe and prolonged jaundice, uncontrolled convulsions, accidents and severe malnutrition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roblems in the way the child is being looked after, e.g. poor stimulation, child abuse and emotional neglec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C8A9-EDE3-4DE5-BDD5-3C37E560C948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Role play</a:t>
            </a:r>
            <a:br>
              <a:rPr sz="3400"/>
            </a:b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 assessment of suicidal risk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vide into groups of three (patient, relative, health worker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ake up a scenario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ealth worker to carefully establish degree of suicidal risk, using the series of questions on page 35 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B6C3-56CE-45B3-83F6-A6C4BE78FC6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Recognition of Learning Disability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t birth – unusual faces or failure to thrive eg Down’s Syndrome. A few conditions are treatable eg hypothyroidism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s a child: delay in normal development; not able to do school work as well as other children; difficult behaviour; poor socialisation; may be the target of bully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DDA2-DE1C-47FB-9519-1A305D81834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Recognition of Learning Disability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n adolescence: difficulties with peers; social isolation; inappropriate sexual behaviour; difficulties forming relationships and developing independen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n adulthood: difficulties in everyday tasks – needing support; problems in establishing independent life – marriage, work, child-rearing; inappropriate sexual behaviour or other antisocial behaviou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BD82-1C8D-4D7B-9727-1598C165986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plain to family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arly training can help towards self-care and independen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eople with Learning disability are capable of loving relationships and have the same basic needs as other peop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udden changes in behaviour may mean the person is ill and needs medical help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12E6-E52C-47C3-9848-1E5F836D056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dvise family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Reward effor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each the same set of social rules as to other childr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earning and practising skills is helpful but the ‘miracle’ cures do not exis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Other advice will depend on what facilities are available locally –</a:t>
            </a:r>
            <a:r>
              <a:rPr b="0" i="1" lang="en-GB" sz="3000" spc="-1" strike="noStrike">
                <a:solidFill>
                  <a:srgbClr val="ffffff"/>
                </a:solidFill>
                <a:latin typeface="Verdana"/>
              </a:rPr>
              <a:t> please add as necessar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F978-78BF-450E-B295-E9AD052E512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Common problems in the child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hysical functions; ability to walk and using hand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elf-care; ability to feed, bathe and use the toilet independentl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ommunication with oth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ocial functioning:; e.g. playing with others, being bullie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hysical disability in severe cas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ental illne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0DA4-D8D7-4616-917B-02E7A846FEF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en should you suspect learning disability  in a child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elayed in achieving key mileston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fficulties in school work and playing with oth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Not able to carry out instruction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hildren after cerebral malari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BB00-E9B1-4463-BF69-09F8E79E6C1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When should you suspect learning disability in an adolescen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fficulties in social relationships with other adolescent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hows inappropriate sexual behaviou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s not able to learn the same rate as other students in cla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160A-0D3F-4FFC-8F6F-FFE3CF07B32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en should you suspect learning disability in an adult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fficulties in everyday functioning e.g. cooking, clean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s problems in social adjustment e.g. making friends, finding wor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C44D-590F-4F86-B24E-178736E27D5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Management of learning disability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orough assessment: Physical, Cognitive, psychological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aintain therapeutic working relationship with the child and famil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ong term support from health, education and social secto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79AC-1054-47A4-ABE8-FD44B4B0312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Management of learning disability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Educate the parents on proper manage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Level of expectations of  chil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ctivities should be broken into smaller par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timul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Use of rewards and praise when the child succeeds in any activ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arents should not overprotect the chil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upport and supervi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ocial activit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hild can continue to learn through  adulthood-continue educational activit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7B44-37C0-4615-96E1-49BBE44FB23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 2. UNEXPLAINED SOMATIC SYMPTOM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ee page 38 of WHO PHC guideline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atient ha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physical symptoms which do not go away despite negative  investigation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Frequent consultation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may have underlying  anxiety and/or depress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ome patients may want relief from their symptom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Others may be convinced they have serious illness in spite of negative investiga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C357-8660-4D43-B5E3-188769937CA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Medical Management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edicine has very little role in mental retardation except in control of seizure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nticonvulsan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D0A2-F5E9-41CD-8086-933F8C91631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Learning disability-discus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ow many cases do you see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ow do they present to you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ow can you support families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35BA-E760-49BB-8C8B-4D4B9EB03C2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4.22. CHILD ABUSE AND NEGLEC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BA31-FB67-4F16-9336-A26DD8AD121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Introduction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hallenge associated with social stigma, that occurs frequently in the privacy of family homes and that may result in severe consequences if disclosed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ost victims suffer in silenc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FBD8-50B3-4B85-A5D2-6DF0216F9CF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Definition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ny mistreatment or neglect of a chil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Resulting in non-coincidental harm or injury that cannot be reasonably explaine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ncludes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hysical ab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motional ab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xual ab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Neglec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791E-3B28-4FA5-9524-8843DCC239FB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actor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isk facto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over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iolen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ental health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isabil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ther facto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oor parenting skills and lack of understanding about child develop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ycle of abuse &amp; domestic violen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ubstance abuse in famil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een moth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10FB-5B6E-4A47-9E50-8AB1636DE09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onsequence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evelopmental delay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ental health problem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elinquency-drug misu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Runaway and living rough- street childr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C852-A015-4AF9-8A3D-526F6E90353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resenting complaint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ifficult to get informat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killful observation and assessment is importan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hildren may present with complaints of the consequences of the abu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BC95-B272-4DA2-A60D-D1F11E53C14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resenting complaint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igns of physical harm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ultiple superficial injuries e.g. bruises, abrasions, cuts, cigarette burns etc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ractu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etinal &amp; subdural haemorrages in non-ambulant childr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ailure to thrive and short statur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oisoning, asphyxi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layed immuniz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ntreated medical condi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xually transmitted disea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3C59-57DB-4158-8D41-719E7C4CCF3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resenting complaint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igns of psychological harm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Depression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Anxiety and fears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Inability to trust or love others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Low self-esteem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Fear of entering into new relationships or activities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Conduct or oppositional defiant behaviour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Deliberate self-harm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Sexualized behaviour inappropriate to age and stage of development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Substance misuse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Sleep problems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Flashbacks, nightmares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Educational under-achievement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Social isolation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AF2B-D34F-4144-9AFF-3DFB127E15F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cknowledge that the physical symptoms are real to the pati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vestigate physical sympto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f no physical illness, explain that stress can cause sympto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xplain link between physical symptoms and str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eassurance that no serious physical diseas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ncourage exercise and enjoyable activit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elaxation methods may hel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ncourage patient to deal with any problems in their lif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tructured problem solv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2063-8B26-416F-85BF-ADAFBDF5DCE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hat to do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emember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Child abuse and neglect is often disputed or denied by parents and alleged abuser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ere may be delays in seeking medical help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ere may be inconsistencies in history/ explanation and not compatible with the injury or child’s development (in trying to protect the abuser or the child fearing further abuse)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3116-0D61-48DB-B86F-20CDC11378A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hat to do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ffective interviewing and observation skill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ttend to immediate medical and psychological need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epare a comprehensive treatment plan including help for the child, the non-abusing care giver, siblings and the abuse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ollow-up the famil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upport the child and famil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ounsel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reatment depends on the nature and sequale of maltreat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2105-93FE-4CAA-9541-F55E9C2E512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Child Protection issue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rise if patient under 18 and claims abuse at home, school or in a children’s home as, if they return, they risk being abused again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f patient fears another child is being abuse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ealth workers are responsible for protecting children from significant har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onsult district child protection officer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2F27-EE7B-4737-977D-C0E0A0627C5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Childhood abuse-initial ac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Listen sympatheticall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educe self blam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nsure patient is saf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ssess risk of suicid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obilise suppor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8B7D-E591-4963-80EC-8294BC3AE75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Childhood  Abuse</a:t>
            </a:r>
            <a:br>
              <a:rPr sz="3400"/>
            </a:b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Potential Long Term Effects  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Helplessness, vulnerability, sensitivity to shaming and humiliation, difficulty asking for help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oss of confidence, assertiveness and trus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elf harm, aggression, risk of abusing othe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epression, despair and suicidal though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ubstance ab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Relationship difficulti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ating disorde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blems with sexual ident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37EA-D952-4B27-9D50-EEC1A7AD43CA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Avoid too many investigation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o not prescribe medication for each new symptom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dvise patient not to drink alcohol or take other drug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reat depression if present (see Depression slides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Regular, scheduled short appointments may prevent too many urgent visi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FA88-F343-463F-9919-40B409A9005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how video of somatis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his video is on same CD as the depression video but is a separate fi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t is very long, and it wont be possible to watch it al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lease allow time for role play afterwards!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D05B-B38F-4FCF-BAC4-79F4F7F4CFCA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omatis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Feeling understood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Broadening the agend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Feedback resul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cknowledge reality of pai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Making the link with stres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 wonder if…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Negotiating  treatment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xplore patients view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cknowledge roles and concer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roblem solving and coping strateg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elax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ntidepressa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64C3-4572-483B-8B8B-EA02C9A102C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Negotiating a treatment contract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Reframe symptoms as depress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ink to life even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sk for feedback from cli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egotiate medic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vide information about antidepressants-  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ide effects, not addictiv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Work with patient on problems (self, life, practical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et realistic time scal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eet each week to review until improve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4255-F56C-4288-B931-752ED8D5FDF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Role play of somatis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ole plays 9a and 9b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s before, everyone to take par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lease demonstrate some of the skills you have watched on the vide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EA20-97FD-4DB9-B275-A6F0E2FB4AAB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3. DISSOCIATIVE DISORDER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See page 39 of WHO PHC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A patient may have unusual or dramatic physical symptoms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eizures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loss of memory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being in a trance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loss of feeling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visual disturbances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aralysis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ability to speak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onfusion about who they are or appearing to be ‘possessed’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The patient does not produce the symptom(s) intentionall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EA52-702F-4E71-8FC8-9DCFD17EC50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SYMPTOMS OF COMMON MENTAL DISORDER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12960" y="162864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xcessive concern about bodily symptoms (headache, backache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Loss of enjoy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Low moo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ry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nxiety and panic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625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tigu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Poor concentr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mpaired sleep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mpaired appetite and weight lo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rritabil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Low libid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Obsessional thoughts and ac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1DBA-24C9-470B-A28E-2DDC8AF7C1F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agnostic feature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he physical symptoms are unusual and do not fit any known disea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hey come on suddenly and are usually related to stress or difficult personal circumstanc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hey may be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Dramatic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Change from time to time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Be related to getting attention from other people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365F-400B-4265-A98F-ADE1D0F5AA5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f other unexplained symptoms are present, see slides on ‘Unexplained somatic symptoms’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reat depression if present (see Depression slides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Give advice to patient and family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Physical symptoms often have no clear physical cau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They may be brought about by stres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They usually resolve quickly leaving no permanent dama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F1AE-C9F2-4A51-830C-BEF7FCC98A0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  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Encourage patient to acknowledge recent stresse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Advise patient to take a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Verdana"/>
              </a:rPr>
              <a:t>brief </a:t>
            </a: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rest and relief from stress, then return to usual activitie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Encourage problem-solving for difficulties; give positive reinforcement for improvement; do not reinforce symptom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Advise against a long period of rest or withdrawal from activitie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Medication not usually needed unless patient is depressed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If patient is having hysterical fits or hysterical paralysis which do not settle spontaneously, then 10-20mg iv valium can terminate the attack and enable the health worker to interview the client. Do not continue the diazepam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76AA-BCF3-4885-9BFF-F7E8644F5BFA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4.</a:t>
            </a: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 ANXIET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e page 37 of WHOPH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What is anxiety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ay be a perfectly normal response to stressful life events or circumstanc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nly an illness if  no obvious stress or threat, or worse than the situation warran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ost anxiety is mixed with depression, and can then be treated as for depression-see abo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f no depression present, proce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8422-B6FD-449E-BBEC-9BC64DD4A5D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Common Types of Anxiet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Generalized Anxie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anic Disord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hobic Disord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A33E-352A-44EF-AAD3-A040D90D671B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nxiet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What the patient complains of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ymptoms of tension – headache, pounding heart, cannot slee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udden unexplained physical symptoms eg chest pain, dizziness, shortness of breat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tense fear of collapse, heart attack or strok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ymptoms of anxiety either in or when thinking about certain situations which are not frightening to most peop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A47C-9602-45F9-9F55-A66290DCC2BA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nxiety Checklis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sk if the patient is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eeling tense or anxiou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orrying a lot about thing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f YES to either of the above, continue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9BC8-1462-4E34-904D-8BDA5B2E241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nxiety checklist, continue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ymptoms of arousal and anxie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xperienced intense or sudden fear for no apparent reason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Fear of dying; Fear of losing control; Pounding heart; Sweating; Trembling or shaking; Chest pains or difficulty breathing; Feeling dizzy, light-headed or faint, Numbness or tingling sensations; Feelings of unreality; Nausea.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807C-D95E-49BF-B5FD-5C3D87B7418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nxiety checklist, continue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66ff"/>
                </a:solidFill>
                <a:latin typeface="Verdana"/>
              </a:rPr>
              <a:t>3.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Experienced fear/anxiety in specific situations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g. Leaving familiar places; Travelling alone; crowds/confined spaces or public plac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xperienced fear/anxiety in social situations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g. Speaking in front of others; social events; eating in front of others; worry a  lot about what others think; self-consciou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9281-47D7-4C97-8EE2-C39056E5C03B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nxiety checklist: summing up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If Positive to A, B and 1, happening regularly: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Generalized anxiet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If positive to 1 and 2: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possible Panic Disorder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If positive to 2 and 3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possible Agoraphob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If positive to 3 and 4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possible Social Phob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7AE2-5C37-4FD2-980B-F35596FFBFC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Common Mental disorder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Mixed anxiety-depress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Depress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Anxie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Panic disord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Obsessive compulsive disord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117E-4EC9-4E15-9532-EFAA4236B87A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Note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ome physical illnesses (such as thyrotoxicosis), some medication and some street drugs can cause anxiety symptoms eg coffee, khat and amphetamin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9728-9C57-48D8-A7C7-57388E9D32D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Generalised anxiet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56800" y="2214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xplain anxiety to patient especially the link between physical and psychological sympto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Give good health advic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at a healthy di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ake regular exerci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ut down on alcohol; do not take drugs; do not smok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* Cut down on caffeine (coffee, tea, col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afe sex – use a cond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* Especially important – too much caffeine causes anxiety symptom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A08C-6362-4038-B7F7-7AECB46DBB3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Generalised anxiety (continued):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each relaxation metho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dvise patient not to use alcohol or cigarettes to cope with worries (see health advice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elp patient learn new ways of dealing with worri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elp patient work out ways of dealing with problems in their lif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(use books or leaflets if available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082C-0645-4694-A13E-61B3436B259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Generalised anxiety (continued):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Help patient plan things which give pleasure, especially things which have reduced anxiety befo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xplain that medicine doesn’t usually help with anxie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f patient has depression as well as anxiety – treat the depression firs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Refer to a specialist only if anxiety is very severe and interfering with daily lif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6861-F674-4390-8D9D-9ABA49F5269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anic Disorder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Note: many medical conditions can cause symptoms like panic, for example: heart disease, asthma, thyrotoxicosi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ymptoms need to be investigated until sure there is no physical cau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976C-FEEF-48AB-88EB-3CD614C258B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anic disorder (continued)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plain to patient that panics are common and can be treate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plain how anxiety causes physical symptoms which may be frighten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plain that symptoms and frightening thoughts (eg going to die or going mad) will go as the panic subsid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EA88-2E9F-4642-A895-E5A688B59E5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anic Disorder (continued)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Give general health advice (see slide 20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ach patient how to deal with a panic attack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t first sign of an attack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ay where you are, if possi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ll yourself that the feelings will soon pass. Even if it seems like a long time, it is usually only a few minu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Focus on thinking about something you can see which isn’t threate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Breathe slowly and deeply, counting to 3 on each breath in and ou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When the feelings subside, continue what you were do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actice while in cli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st people do not need medication to deal with panic-benzodiazepines are addictive. If medicine essential, then consider 25mg amitryptyline a day or propranolol, but avoid maintenance diazepam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850D-B9E2-48C8-A7B1-300895CE623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hobic Disorder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 phobia is an unreasonably strong fear and/or avoidance of people, places or events such a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eaving home or being alone at ho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rowds or public pla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ravelling by matatu, bus, train, plane or c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pen spa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peaking in publ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ocial ev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ther things such as animals, darkness, heights, blo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56E2-BD05-4AE1-8E88-4AEC4155BA08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hobic disorder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xplain to patients that they can treat their phobia successfull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voiding the fear makes it wor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Fears can be overcome by facing them systematicall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72DB-AC48-4263-ADF7-5E72AFBFEF2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hobic disorders (continued) 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nsure the patient understands the problem and wants to deal with it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elp patient plan steps to overcome the fear (‘exposure’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Find a small first step to face the fear eg if afraid to leave home, take a short walk away from home with a relative or frien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actice this step until it becomes boring not frightening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175E-C76E-465B-9A80-C4E925F6A0C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ymptoms and Syndrome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ome terms are used with two different meaning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g depression (low mood)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as a symptom, and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as a syndrome (depressive illness) with persistent low mood accompanied by many other symptom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g anxiety (worrying)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as a symptom, and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as a syndrome (anxiety state) with persistent anxiety accompanied by other symptom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D47A-DB10-42E0-8096-E994E22BB97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hobic disorders (continued) 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Exposure (continued)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xplain that to succeed you have to experience panic and not run awa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ractice, slow, deep breath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o not leave the feared situation until the fear starts to go – at first this may take 30 minutes or mo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Once the first step feels comfortable, practice with a more difficult step eg a longer time away from home, or go out alon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o not take alcohol, anti-anxiety medication or street drugs for at least four hours before practising these step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Keep a diary to track progr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68F7-8E33-400F-9E52-8CFCBFBD5EA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hobic disorders (continued) 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f patient is also depressed -see depression slides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ost patients will not need medication, except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f the feared situation happens rarely eg fear of flying,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Verdana"/>
              </a:rPr>
              <a:t>short term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 medication may be usefu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939D-AD22-46ED-B6CA-122F4658672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hobic disorders (continued) 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onsider establishing a patient group for people with anxiety, panic and phobi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hare experienc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each and practice relaxation techniqu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upport each othe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C149-DBBC-4286-99B6-0DE5B84922D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Verdana"/>
              </a:rPr>
              <a:t>Video of anxiet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2356-11F2-449B-9BF9-15E45316EA9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Role play of anxiet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ole play 10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veryone to take par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nxiety management skills are crucial as they are effective whereas benzodiazepines are addictive and not curativ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194E-96DB-4F70-ACA0-77D068E73A6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5. ADJUSTMENT DISORDER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Brief reaction to stress which resolves quickl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9ED6-648A-4FF6-9703-0991B334C9C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What the patient may complain of: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eeling overwhelmed or not able to cop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tress-related physical symptoms eg: not sleeping, headache, abdominal pain, chest pain, palpitation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ymptoms of anxiety or depress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creased use of alcohol or drug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273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27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n acute reaction to  a recent stressful or traumatic even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273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556C-2ABE-42E1-B81E-A18DA5FD113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say to the patient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Stressful events often have physical and mental effects, physical symptoms are real and caused by stres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These effects usually last only a short time – a few days or week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Reinforce any positive steps the patient has taken to deal with the stres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Advise patient against the use of alcohol or drug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Identify relatives or friends who can provide support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Do not prescribe medication unless symptoms are very severe – and then only for a few day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5547-1703-4850-B2C8-50B0F43AD01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4.6.</a:t>
            </a: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POST TRAUMATIC STRESS DISORDER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the patient complains of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hysical symptoms eg various pains, poor sleep, tiredness), various anxiety and depression symptoms linked to a particular trauma and lasting more than one month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887E-4618-4AC7-824C-634DE2D5B64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agnostic Feature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istory of an extremely traumatic event that would distress almost anyon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trusive memories, flashbacks and nightmar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atient avoids thoughts, activities and situations which remind him/her of the even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D1C4-6D97-4DAD-98F8-C5305363AC8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Bio-psycho-social causes of mental illnes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ci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ife events e.g bereavement, unemploy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hronic adversity e.g poverty, domestic viole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ack of social suppor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Psychologic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earned helplessn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ssimistic cognitive approach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helpful learned patterns of behaviou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Physic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enet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ndocrin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utri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f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A070-952B-4F28-86E3-EDE9EB041B4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agnostic features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ense of numbness, emotional blunting, detachment from other peop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ot responding to surroundings, no longer enjoys anyth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Being over vigilant, easily startled, poor sleep, irritability, excessive anger, poor concentration or memory -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utonomic arousal’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D399-054F-45BF-9814-57BEED77556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plain that traumatic events often have psychological effects. Most people get better without any treatment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f symptoms last more than a month treatment may be neede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plain to family that patient needs support and understand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9473-3230-4D64-9276-F25C1A62CE6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dvise patient to talk about the event with sympathetic friends or family memb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ncourage patient to face avoided activities and situations gradually (see ‘Phobic Disorders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sk about suicide risk (see Depression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A804-02A7-4BFB-A694-9CA0B7A044E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on’t use alcohol, smoking or street drugs to cope with anxiety symptom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ognitive behaviour therapy may help if availabl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edication is not usually needed, but anti-depressants may help if patient is depressed – they may take longer to work than usual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E3DE-ECED-4EC7-9D16-A70C0545DE6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scuss PTS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ve you seen it and where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ow can you distinguish between depression, anxiety and PTSD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ole play 10c Mohamed H ame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52F5-49B1-485C-A69B-26BA19D4649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7. SLEEP PROBLEM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hese include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somnia – not being able to slee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leeping too much during the d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ther problems such as sleep talking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leep-walking, nightmares, night terro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4616-5031-4E73-A75C-24AAF26D570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What the patient may complain of: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fficulty falling aslee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aking up in the nigh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aking early-see depress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Not feeling refreshed by slee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alling asleep during the da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haustion, tiredne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oor memory or concentrat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rritability or depress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ependence on sleeping tablet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2DD7-0067-4C1A-A8E0-CD8EF48485A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leep problems check lis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sk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ve you had any problems with sleep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Difficulty falling asleep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Restless or not being refreshed by sleep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Early morning waking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Frequent or long periods of being awake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f YES to any of the above questions, continue: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26BA-C36B-4FC7-A1E1-8624AEA315D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leep checklist continue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o you have any illnesses or pai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re you taking any medicin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o you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Drink alcohol, coffee, tea, chew khat/mira  before you go to bed?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Eat shortly before going to bed?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Take naps in the daytime?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Have you changed your routine (shiftwork?)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Hear loud noises during the night?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525C-62BC-4196-B2DB-46F3FC7CF72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leep checklist continued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o you have problems at least 3 times a week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s anyone said you snore very loudly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o you get sudden attacks of sleep during the day that you can’t control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re you feeling low or losing interest or pleasure in thing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re you worried, anxious or tens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ow much alcohol do you drink in a typical week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AC1B-5149-45F6-A777-28B63A4AF11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Bio-psycho-social consequences of mental illness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Suffer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Disabil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rtal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ici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hysical illnes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Unemploy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Low productiv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Pover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Stress on car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urnout, compassion fatigue, depres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arital breakdow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llectual and emotional damage to childr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Cycle of disadvantage across genera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Reduced access to and success of physical health programm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F346-BC98-43C0-B93E-CABDFD725D0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leep checklist: summing up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ositive to any of 1, 2 or 3 – give advice on underlying problem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ositive to 4 – possible sleep problem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ositive to 5 – consider sleep apnoe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ositive to 6 – consider narcoleps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ositive to 7 – consider depress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ositive to 8 – consider anxie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f weekly drinking is more than 21 units for men or 14 units for women, consider alcohol use problem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79E8-6671-4D2D-8A26-2D5B9A58320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reat underlying physical illness, pain, anxiety or depression as appropriat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dvise patient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Most sleep problems do not last long, and do not require treatment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People vary in the amount of sleep they need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Sleeping tablets are rarely needed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DEAF-06FE-4DDE-96E6-9A3AFB0E211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dvice for patient and family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Keep regular times for going to bed and getting up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o not drink coffee, tea or alcohol in the evening; do not eat meals late at nigh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o not take naps in the day tim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aytime exercise can help, but exercise in the evening may not be good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ake plans for dealing with problems and worries before going to be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void taking sleeping tablets, or take for very short tim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75DC-EBF7-408D-B65B-1194E8E29BA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scuss sleep disorder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ow common are they in your clinics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are the common causes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scuss case scenarios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11a Mrs Helen Mukuny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11b Rebecca Musonic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F72B-7510-470F-897E-19353034905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4.8. EATING DISORDER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aladaptive eating patterns which endanger heal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atient may complain of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rious physical symptoms e.g abdominal pain, bloating, constipation, intolerance to cold, light-headedness, changes in skin, hair and nail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ack of periods, fertility problems, gastro-intestinal or throat probl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ow mood, anxiety, irritabi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A9DD-0A8C-48AB-A765-B815F4B0D4FB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Eating disorder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amily may ask for help because of worries about patient’s loss of weight, refusal to eat, vomiting or lack of period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atient may severely restrict what they eat, binge eat, make themselves vomit, exercise excessively or misuse laxativ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9F2B-517A-4099-9B1D-E5251D23883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agnostic features: (common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Unreasonable fear of being fat or gaining weigh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inking of themselves entirely in terms of body shape and weigh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Great efforts to control or reduce weigh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enial that weight or eating habits are a problem (anorexia nervosa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Obsessional symptom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Relationship difficulti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ncreasing withdraw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chool and work problem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7590-F678-4C12-990A-8B6FF3974C9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Diagnostic features of anorexia nervosa: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evere dietary restriction despite very low weigh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orbid fear of being f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Unreasonable belief that he/she is overweigh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Lack of period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ome patients binge and abuse laxativ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C774-828F-4637-BCAC-F3EF89B007B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agnostic features of bulimia nervosa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binge-eating (episodes of uncontrolled overeating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urging (attempting to get rid of food eaten by vomiting or using laxatives or diuretics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trict dieting and excessive exercise to compensat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inking of him/herself in terms of shape and weigh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8C15-DBF3-4396-A37E-B9BE0F2F822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Note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eople can show symptoms of both types of eating disorder at different tim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edical consequences of severe weight loss include: poor attention and concentration; poor memory; low blood pressure, slow heart rate, other heart problems; suppression of bone marrow; osteoporosis; muscle weakness; gastro-intestinal problem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6992-48D2-4833-9FD1-8C4D2EB862B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1.</a:t>
            </a: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EPRESSIVE ILLNES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lease refer to pp 35-36 of WHOPHC guidelin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ow mood most of time lasting more than two wee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 common illness which can be trea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Not weakness or lazin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ffects ability to co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upport from family and friends is very import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50EE-5F00-4401-AFCD-E306E2FD739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Help the patient recognise that they have a problem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This can be very difficult! They are often almost delusional about body ima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Explain the dangers of purging and severe weight los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Purging and severe dieting are not effective ways of controlling weigh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Gain support from a family membe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ducate patient and family about good nutri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6FBD-881C-434A-AC33-3F0735C8CC7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et manageable goals for weight gain with the patient and family member – use a food diary to chart progr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o not expect rapid progr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ncourage family to be supportive and consist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f weight loss severe,  low dose chlorpromazine at night can be life saving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f no improvement in about 8 weeks, refer to a specialis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DD5F-341C-4CF6-87C3-850E472DE33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scuss eating disorder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ve you seen any in your clinic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kinds of problems have you encountered in managing the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4885-E233-49BC-B443-A8D17AE8FA28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9a. SEXUAL DISORDERS (Female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Common problems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ack or loss of sexual desi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ot able to achieve or maintain response to sexual excite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exual pain: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Vaginismus – spasm of vaginal muscles on attempted penetration with fear or phob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Dyspareunia – recurrent genital pain associated with intercour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elay or absence of orgasm or clima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D765-3ED5-427D-ABDE-12FDE1A12D4A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What the patient may complain of: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atients may be reluctant to discuss sexual problems – may complain instead of physical symptoms, depression or relationship problem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atients may talk about sexual problems during a routine smear test or when discussing contracep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B: patients with sexual problems may have a history of sexual abuse or assaul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9CFD-1BB6-4818-B30A-8A6446516B6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ome possible cause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epression – may cause, or be caused by, sexual or relationship problem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ide effects of medication or misuse of alcohol or drug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Gynaecological problems eg pelvic or vulval infec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Other physical illnesses eg  atherosclerosis, multiple sclerosis, diabet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ote: more than one form of sexual dysfunction may be pres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8A1E-38B0-487F-9581-21F84313164A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reat physical causes where possible eg infections; reduce alcohol or drug dependen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sk about previous traumatic experienc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iscuss sexual beliefs and expectations with patient and partner. Encourage patient and partner to discuss their preferenc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ncourage patient and partner to practice giving each other pleasure without full intercourse; – it may take some time to regain full sexual activity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BADF-E0AE-4310-B163-70F40BB33C9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Vaginism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ause is  usually psychologic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xplore psychological issues and give suppo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Vaginal dilators   in graded sizes can  help , but may not be  generally available.-this is a service lack at present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ay be difficult to treat without specialist hel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yspareuni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Lack of foreplay, poor lubrication, anxiety and muscle tension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Relaxation, use of lubricants and prolonged foreplay may help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ack of orgas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Discuss couples’ beliefs and attitud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Lack of foreplay common problem. Stimulation of the clitoris may hel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Women may experience sexual satisfaction without orgasm.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Women may be encouraged to use vibrators if available and/or sexual fantasy to give themselves pleasur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D9E6-400C-498F-8577-FAE8B7F9C70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scuss female sexual problem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kinds of problems present in your clinic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ow do you manage them?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difficulties do you encounter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C571-4E5A-4960-BFCD-F57025F1575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9b. SEXUAL DISORDERS (Male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ommon problems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Lack or loss of sexual desire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rectile dysfunction or impotenc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remature ejaculat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etarded ejaculation or problems with orgasm – intravaginal ejaculation may be absent, but can occur normally during masturbat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18F1-077E-4F30-886D-3F145C86FD5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What the patient may complain of: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alaria although no fever and normal blood film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hysical pain eg headache, backach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iredn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rritabil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nxie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nability to sleep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Worries about money or relationship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ncreased drug or alcohol 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(in a new mother) constant worries about her baby or fear of harming the bab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31B2-A7A8-4018-9E5A-774E0E49950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ome possible cause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Depression and/or relationship problems with a partner may cause, or be caused by, sexual dysfunctio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Erectile dysfunction can be caused by physical factors eg alcohol or drug misuse, smoking, high blood pressure, diabetes, hydrocoele, multiple sclerosis, spinal injury, some medication eg antipsychotics, antidepressants, diuretics, betablockers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Verdana"/>
              </a:rPr>
              <a:t>Ask: is it impossible to achieve erection at any time – morning, night or during masturbation?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Specific disease in sexual organs, rar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Unreasonable expectations of sexual performanc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Note: more than one sexual dysfunction may be present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E83A-18D1-42C8-8243-3701F68304E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rectile Dysfunctio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xplain – often temporary; due to stress, loss of confidence, fear of failur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dvice to patient and partner-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lnSpc>
                <a:spcPct val="90000"/>
              </a:lnSpc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Do not have intercourse for several weeks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lnSpc>
                <a:spcPct val="90000"/>
              </a:lnSpc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Practice giving each other pleasure without full intercourse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lnSpc>
                <a:spcPct val="90000"/>
              </a:lnSpc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Gradually return to full intercourse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Verdana"/>
              </a:rPr>
              <a:t>Medication may help if available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ACD0-1DD5-4B4E-B354-EB0A7399B348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remature Ejaculation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Usually seen in young men from first attempts at intercours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dvise: Can learn to delay ejaculation with experienc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etarded ejaculation or orgasmic problems: More difficult to treat, but self-pleasuring and penile stimulation may help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048A-D7DC-4CBD-A9CC-2B2B0033FDC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Lack or loss of sexual desire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plain: the level of sexual desire varies between individuals – may be different expectations between partn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any causes: stress; illness; bereavement; relationship problems;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ncourage cooperation between partners, stress reduction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10A9-BAE3-4F98-AFEB-1DD08D25C24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scuss male sexual problem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is your experience in your clinic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difficulties have you encountered in dealing with them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C604-1918-4282-AEA6-BA221D779BF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masturb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scu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Normal human activity in private to release sexual desires without imposing inappropriately on oth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FC9B-9238-4B8F-95E9-A1FFE52A05A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Homosexuality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scu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Not a mental disord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Normal variation of human sexuality in 5-10% of adult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Not a mental disorder in itself , but difficulties of adjusting and living with homosexuality may predispose to depression and substance abu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C89E-BBBD-41B7-9670-B0DF6E02AF2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10. ALCOHOL MISUS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66280" y="2636640"/>
            <a:ext cx="8001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ee page 40of WHOPHC guidelin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rinking above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28 units per week for m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21 units per week for wom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38AE-BC5A-42CB-838C-67834AC76A5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lcohol misus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e patient may present with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ow mo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Nervousn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Unable to slee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hysical consequences of drinking eg ulcer, gastritis, liver disease or high blood press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ccidents or injuries related to drink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oor memory or concent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lf-neglect e.g poor hygie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ailed treatment for depres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8CFA-2F50-411E-AFE0-477F9507A46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Note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ere may also b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egal and social problems due to drinking eg marital problems, domestic violence, child abuse or neglect, missed work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igns of alcohol withdrawal eg sweating, tremors, sickness, hallucinations, fi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atients may be unaware of, or deny, alcohol problems. Family members may complain before the patient do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8T14:50:57Z</dcterms:created>
  <dc:creator>Elizabeth Armstrong</dc:creator>
  <dc:description/>
  <dc:language>en-US</dc:language>
  <cp:lastModifiedBy>LENOVO</cp:lastModifiedBy>
  <dcterms:modified xsi:type="dcterms:W3CDTF">2021-12-02T18:02:27Z</dcterms:modified>
  <cp:revision>125</cp:revision>
  <dc:subject/>
  <dc:title>COMMON MENTAL DISORDERS</dc:title>
</cp:coreProperties>
</file>