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22F-71B2-498C-BCD0-C4A9891E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679-2A78-4175-8ECA-DA0DB695B7B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E29-9ACF-431D-AD27-4E1E3778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C76-52A4-4222-ADF2-95949C04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8FB-25C4-4052-8E41-3C9A372D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500-C018-4743-8CA0-BCB687EE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126-327B-4CCF-AED4-9A66B829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8013-2DA6-40C2-834C-FDD92BD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37E-310D-4D90-939D-3272F51C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3689-8263-4198-85B8-3748197E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609-F098-4CB1-B2AA-03CF500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DFA7-555C-46F1-9B92-EA2010A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934B-E02F-40B4-926D-78C677C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BA9-C147-4DDD-916C-2091FAF1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8A96-3AF1-445A-9F37-9472BB3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9216-08BE-4EB8-ABFE-DF992D3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A4CC-1B96-483C-9997-C259F0C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FE2B-6EE9-4581-AF30-5D701A1D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A862-9E14-40E4-813C-DF20DC96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EE2-532A-46E0-B902-D1D8D44F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C02-FFEF-49D5-B1B1-F35DC81F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6E0-2B8A-4902-AC8C-3F7757E2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5F0-6D82-40F5-AC7E-B4460819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62E-43BC-475C-B5E2-07D6F4B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F93-5AEA-42E0-9078-AD0510F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899-5876-4358-AEFD-EDE24E0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7D4-4A2B-43CA-B6AB-B1347C633AB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5802-D534-46A3-A4E0-D4AA56D788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E77E-A979-4B5E-8227-62F62F21B155}" type="datetime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F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BC8-0A4E-433C-84C1-8F103996155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8FB-0BF1-4480-92B8-BD3AC50A920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65B-5B3A-44E3-8CA1-EC5CA02E5C0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By: KASISI F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8D3F-1372-4038-8178-3F525EB1D37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567-ED1D-4F0D-A182-F0D22406FA2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1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fferent Class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009-605B-4E6B-88A1-FCCA1AB3B54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4EBB-BC96-41EE-B654-0AAFD95FD83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ttern of disregard for and violation of the rights of others that begins in childhood or early adolescence and continues into adulthoo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valence more common in males than females (5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likely to be diagnosed in prison or forensic samples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p to about 30-50% of incarcerated populations (Drugge, 2002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ilure to conform to social norms with respect to lawful behaviou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ceitfulness (lying, use of aliases or conning others for personal prof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E0D-9BEF-48C5-AE45-1822AF14065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9A4-073C-4EF3-B675-3FB97A9BDA7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ulsivity or failure to plan ah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w threshold for aggression and easily frustra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rritability and aggressiveness (physical fights or assault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klessness disregard for safety of others or sel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istent irresponsibility (failure to sustain consistent work behaviour or honour financial obligation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00D-9C88-4BD2-A799-3A489A830AA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F7DC-EDA8-4AD6-B9B0-8452B25F780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ck remorse (indifferent to or rationalizing having hurt, mistreated or stolen from another; and does not learn from experience i.e punish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y initially appear articulate and cha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ludes behaviors such as vandalism, harassment, theft, and a wide variety of illegal activities such burglary and drug deal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s individual should be at least 18 years and evidence of conduct disorder before age 1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5CCD-BCF5-4F56-A743-23E6670FA7E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C55C-5266-4F8C-9DA0-A15C9D10590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½ to 2½ % of the popu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ume the worst, may be quite skilled in identifying patterns of events and behaviors of others that “prove” they are being plotted agains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e reluctant to trust or confide in anyo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vasive distrust and suspiciousness of others, their motives interpreted as conspirationa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D8B-F722-4928-B4A4-BB8CB45F411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5D0F-0B81-40EE-9B2A-411D16A94C3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ventually come off as angry, stubborn and bitt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spects without proof that they being exploited, harmed or deceived frequently become embroiled in lawsui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occupied with unjustified doubts about loyalty or trustworthiness of friends or associa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0A8-4EC3-476E-933B-EFB2785BBDB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BEB-B344-4017-B406-1943766F6BC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luctant to confide in others because of fears of information being used against th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ds hidden demeaning and threatening meanings to rema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sistent bearing of grud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ceives attacks to character or reputation not apparent to others and reacts angrily or counterattac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urrent suspicions regarding fidelity of spouse or sexual partn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FD55-4AF7-40B0-AAA8-9D4E9EAD4BC9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326-1E8E-4D5A-8013-8F837637FD8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tached from social relationships and restricted range of expressing emotions in interpersonal settings beginning by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ooses solitary activ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es not desire or enjoy close relationshi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tle or no interest in having sexual experiences with anoth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921-D542-40CA-B5C3-14315251A0B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2530-35AD-4131-AECD-F1EE7435890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tle or no pleasure in activ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 close friends or confidants other than first degree rel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ifferent to praise or criticism of oth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otional coldness, detachment or flat aff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ensitivity to prevailing social norms and conven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F8D7-8DC1-4ED8-B8D8-9794BBF157B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E58-CF83-42FA-810B-ABE6E955144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izotyp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% prevalence rate in the population—may be slightly more common in males Idiosyncratic &amp; experience odd thoughts, seemingly strange ideas, and behave unconventionall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y wear odd and unkempt clothing, and espouse unique ideologies or “theories of everything.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ssess interpersonal awkwardne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ave particular difficulty in close relationship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437E-8CE7-4DB6-8318-2F32A6827B2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D49B-BD6D-42C7-B597-19FED9CE75B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entai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felong persistent, enduring characteristics and attitudes of an individu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ay of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nking (cognition)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ing (affectivity)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having (impulse control and ways of relating to others and handling interpersonal situation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823-AE40-4BA7-A5F6-4DA34800404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5140-82E9-4B8C-A984-FAD00D2A04B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izotyp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 inability to take pleasure from any kind of social interaction, ranging from interesting conversation to sexual activ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difference to other’s opin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ve solitary liv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ch people seem unlikely to seek professional hel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its extreme this disorder can dangerously approach schizophrenia, characterized by major distortions of reality, jumbled thinking, and even hallucin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6D24-2EF9-496A-B0AA-20E6BD7C4429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4CB-5BB9-470A-8A73-A0851753F41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ant (Anxious)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ersistent feelings of tension and apprehen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lief of being socially inept, unappealing or inferi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occupied with being criticized or rejec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willingness to become involved with people unless certain of being lik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stricted lifestyle due to need to have physical secur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ance of activities involving significant interpersonal contact for fear of criticism, disapproval or rejection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242-4199-4D2C-B80A-E2B992C2873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27D-E768-4DAB-9AF8-F0805424ECE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ent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ncourages/allows others to make important life decis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due compliance and subordination to the wishes and needs of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willingness to make reasonable demands on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ing uncomfortable, incompetent or helpless when al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occupation with fears of being abandon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mited capacity to make everyday decisions without advise/reassurance from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AE6-BB06-4AC4-BAAD-07C7A459102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C8F5-E0D6-4395-BE03-0B95BAFC5BD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rionic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-3% of the population; more frequently diagnosed in wo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vasive pattern of excessive emotionally  and attention seeking (self dramatization, exaggerated expression of emotions) beginning by early adulthood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comfortable where not centre of atten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teraction with others often with sexual seducive or provocative behavio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9DDD-5AA7-44D4-AB70-EE858AAC8F7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7BE-B346-4406-AF15-06019AB1298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rionic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apid shifting and shallow expression of emo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of physical appearance to draw attention to sel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peech style excessively impressionistic but lacking detai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ggestible and considers relationships to be more intimate than the actu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EDE-8BCF-485E-9EA8-C3FAC8F8E3C4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A8C6-9C4E-4C1D-A169-25FDD262233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 (BP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The hallmark of this disorder is emotional instabilit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9 characteristics (5 needed for diagnosis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1. Rapid Mood Shift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2. Uncontrollable Ange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3. Self Destructive Act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4. Self-damaging behavior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5. Identity disturban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6. Chronic Emptines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7. Unstable relationship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8. Fear of abandonment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9. Confusion and feelings of unrealit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B6DC-FD02-416B-A7CE-8C3AEBEC7C8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776-D5B8-4424-A44B-1F99205BFC7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vasive pattern of instability of interpersonal relationships, self-image, and affe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rked impulsivity, severe mood swing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e self, others, world, in black and wh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mine their own achiev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amatic, particularly when threate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common in females (4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out 60% of clinical populations referred for borderline personality dis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3B7B-385D-47B6-AAB4-032A400F732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8E4-BAA7-4AFA-A0BE-177678C42BF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s than 1% of the general population are diagnosed disorder is relatively rare  BUT related trait of narcissism is quite comm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9 characterist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. Grandiose sense of self-import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. Preoccupation with fantasies of ultimate attai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. Belief that he or she should associate only with others who are “special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. Requirement for excessive admi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. Sense of entitlement exploits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5CEA-F26E-478A-821A-705E5EF44E0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071-B096-41E0-AF89-D9815C79862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. is interpersonnally exploita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7. Lack of empat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8. Enviousn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9. Arrogant behavior and attitu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arcissism is a Trait where people appear superficially charming and make a good first impres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nd to brag &amp; make themselves look good at someone else’s expense; defenses that are likely to lead to social isolation or poor social relationship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perately crave feelings of power, prestige, success, and glor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6A8-E253-4EE2-8F62-4534554C2EE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DC78-14BD-4387-969F-247504EF873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nkastic Obsessive-Compulsive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Occurs in 1% of the populatio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concern with rules and detai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eep reverence for rules, organization, and details, to the point of absurdity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fection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inclination to the degree that it causes severe problems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orkahol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often stereotypical workaholics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flexi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set ways of thinking and behaving and are not open to change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E1F2-618F-4939-8AAF-3AE35D24AC3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56A-3920-450C-9076-9FD7DC6322F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sonality development occurs in early years and remains modified up to adolescence and early adulthoo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rmal personality is considered in 5 dimens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trover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motional s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reeable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scientious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llectual open minded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10B-8854-4891-9FC5-13BBBC153D8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DCF-B5D4-4091-AC35-F9F8C98DE3D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ssive-Compulsive Personality Disorder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ckr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compulsively unable to throw anything awa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ability to deleg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oes everything for himself or herself, because nobody else can possibly do things right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ser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hoard pennies against unlikely future catastrophes, and they may live way below their means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gid and stubbor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o things the same way time after time, day after day; even the contemplation of a change upsets them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5ED2-9C86-424F-84B8-B0CA908BFBD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9EF-381E-4676-9C72-633D5C847AD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fectiv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fe long abnormalities of mood vari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ressed- usually gloomy pessimistic and inhedon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yclothymic- alteration between gloomy and elated st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ic – mild elation, over optimistic and impul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B99-19AC-464F-838B-D2242D75CB7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9CE-ECB7-42B4-9015-EBDA94D774B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sive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mpulsive typ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motional insta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ck of self contr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aracterized by violent/threatening outbursts particularly in response to critic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ECE-99C1-4ED3-943B-CEAEA741C7B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C1B-0C5D-4B98-BAFF-631ECF069ED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are difficult to man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ividual/group therapy, therapeutic community, CB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ipulation of social environment can hel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ugs not appropriate unless superimposed mental ill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884-A190-4E35-8FAD-3F43A8C4846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2A1-6231-4E0A-9ECC-9DE9968A7C3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, by definition, is the expression of an unusually extreme degree of one or more attributes of pers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s important that the variation not only be extreme, but also unusual, especially considering the individual’s cultural con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D96B-5C22-42B8-982D-FB2959E142F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154-8918-4233-9DE5-D402C6F1769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tt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d Bl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F56-C121-40B9-B613-4D832D9B2B57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982-C889-4863-9782-02FD7D57FDD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elder, M., Harrison, P. &amp; Cowen, P. (2006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Shorter Oxford Text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5th Edition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cobson, J. L. &amp; Jacobson, A. (2001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Psychiatric Secrets: The Secret Seri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2nd Edition. Philadelphia: Hanley &amp; Belfus In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endrick, T. &amp; Simon, C. (2006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Mental Health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aplan &amp; Sadock (2000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7th Edition. New York: Lippincott Williams &amp; Wilkins Publisher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obertson, B., Allwood, C. &amp; Gagiano, C. (2001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 for Southern Afric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mple, D., Smyth, R., Burns, J., Darjee, R. &amp; McIntosh, A. (2005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Oxford Hand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ri, B.K., Laking, P.J. &amp;Treasaden, I.H. (2002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dition). Edinburgh: Churchill Livingston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ignmen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E1D-8C1D-4764-9388-C51652690E4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5EF5-8EF6-4F13-BB7F-8B2FD9515B8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patterns that are pervasive, inflexible &amp; maladaptive 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Maladaptive pattern of behavior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ldren may have all personality disorders except antisocial personality disorder (must be &gt; 18 to diagnose). If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lt; 1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it is called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nduct disor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340-7176-495E-BC3F-BEEB7747315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EA23-D514-4B09-8926-CC1757D90C1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3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A: (Odd): Peculiar thought processes, inappropriate aff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B (Moody): Mood lability, Amnesia &amp; preoccupation w/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C (Anxious): Anxiety, sensitive, preoccupation with criticism or rigid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1FB-B37D-427D-87D5-11B84027FEC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667-A574-4C90-BB18-EE7F7B9D199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DBC-D342-4EAA-AAC4-68AFE905AD5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9C5D-91AC-4C6C-BA83-B685636D432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treme persistent variation from normal range of one or more personality attributes (traits) , causing an individual/ family/society to suff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Factors/Et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nate temperamental difficulties, such a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rritabi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erse environmental events, such as child neglect or abu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in par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ADB6-7CFF-4768-9CE7-117616D2715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648B-1AC9-4D6C-B1A2-1082D00E9E3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alence &amp; On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re males have antisocial &amp; narcissist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re females have borderline &amp; histrion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not diagnosed until late adolescence or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D9A-2611-411F-B8AC-D7C0CBEB0B6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917-75AD-4AB6-A1F5-561F88F291F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very chronic over decades without treat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noid, schizoid &amp; narcissistic (moody) personality worsen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&amp; borderline (violent) personality disorder improve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8CBA-E576-4FDA-9EE3-FEBDAD676F0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6E0-7778-4325-9538-F15E7672474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ng pattern of difficult interpersonal relationshi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blems adapting to stress, failure to achieve go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ronic unhappi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w self-este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ociated Diagnoses: Mood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 Risk Factors/Etiolog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Innate temperamental difficulties, such as irritability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Adverse environmental events, such as child neglect or abu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Personality disorders in pare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 Prevalence &amp; Ons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More males have antisocial &amp; narcissist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More females have borderline &amp; histrion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Usually not diagnosed until late adolescence or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Course: Usually very chronic over decades without treat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Paranoid, schizoid &amp; narcissistic (moody) personality worsen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Antisocial &amp; borderline (violent) personality disorder improve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935-C794-4AE1-B38C-E0E9163FF10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5A20-8C4A-40DC-8D60-EA55EB9A3BC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od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change due to a general medical condit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justment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C60-7F98-47A5-AFDD-90AC34356DE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B3C-5689-48D4-BDDA-F8F9CB2B6CB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sychotherapy (Psychodynamic &amp; Cognitive therap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od stabilizers &amp; Antidepressants maybe used in Cluster B pers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FE61-96F5-493D-99DE-FD0C6F452E4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A0EC-D05D-476F-9CB5-252C4CA9CAB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Od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B333-ED68-43F6-80BA-9B95E103B26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52AD-9B9A-4E68-BD8F-45B409B788E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ust &amp; suspiciousness often secretive &amp; isolated, emotionally cold &amp; od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sociated features: brief episodes of psychosis w/ persecutory delusions &amp; pre-existing sensory impairmen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fense mechanism: Proje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fference from schizophrenia is the duration - all lif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unctioning level - Can fun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psychotic syndromes (No hallucin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BB7-E738-4B36-9E54-EC08D110A91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09D-5335-435C-A48C-DFCAC2D1EAB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a lon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tachment &amp; restricted emoti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ividuals are disinterested in others &amp; indifferent to praise or critic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ociated features include social drifting &amp; dysphor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B2D-B319-4B20-96E9-8F4139084EC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AADC-113A-438D-A0F9-B07BD2CCAC6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izotypal personality disor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most Odd / Bizar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comfort with social relationships; thought distortion; eccentric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dividuals are socially isolated &amp; uncomfortable with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have Schizophrenia if under str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like schizoid personality disorder, they have peculiar patterns of thinking: (ideas of reference &amp; persecuti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dd preoccup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dd speech &amp; affe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A8D6-95B7-44BE-B292-EAD112C2483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6A1-5CF9-4854-A03B-DF761C3BEDF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CB14-512F-488F-B651-D1FCDFCFD2A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5FE-42D7-4687-ACA5-FF9264E28B2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draw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noi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izoi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izotyp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xious (Avoidant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ssive aggres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Moody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AE6-3FCB-48B6-A698-449F94023DF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015-A2F7-43F1-95AB-B00D1BEB738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rion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lorful, exaggerated behavior &amp; shallow expression of emo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comfortable in situations where he or she is not the center of atten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s physical appearance to draw attention to self; sexually s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8A25-8113-45FC-A29B-61C239605C3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7388-890A-4F29-86D7-B827653E8B5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stable affect, mood swings, marked impulsiv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current suicidal behaviours, feelings of emptiness or bored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appropriate ang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f stressed, may become psychot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fense mechanism is split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989A-691F-4799-AEFC-954546799D1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4B5F-3286-4E4F-973A-EF089DF83CE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or criminal acts, inability to conform to social rule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regard for the rights of others, aggressive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ck of remorse &amp; deceitful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mptoms start at the age of 15, but the individual is diagnosed at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gt; 1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3FC-1B96-4D8E-ADEA-69A27CF89E7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DFF8-B2BE-4425-B7C6-A5F1E47548E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se of self-importance, grandiosity &amp; preoccupation with fantasies of succ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s person believes she/he is special, requires excessive admi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cts with rage when criticized &amp; interpersonally exploita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BA5-CDA8-4BA7-8458-1C366E3EADE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F19-E49F-40F5-91DA-D92FE833951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C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nxious, Fearful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3874-FF8C-40F4-AD14-56E3B3A6C31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0DD-0641-487B-AEE3-55762273AB6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61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oidant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cial inhibition, feelings of inadequacy &amp; hypersensitivity to critic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y away from work or social relationships because of fears of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eel lonely &amp; substandard and are preoccupied with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63F-165F-460C-8C29-F356863B2A63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3CA-EDD1-42F9-846C-D29E26DDCBD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endent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bmissive &amp; clinging behavior &amp; worry unrealistically about abando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 inadequate &amp; help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disagreements with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y usually focus dependency on a family member or spo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found in many abusive relationshi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ssociated features include self-doubt, excessive humility, poor indepen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unctioning, mood disorders, anxiety disorders &amp; adjustment disor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A75-1CD1-4C80-8FA0-8146C5CF942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F206-1F7E-4B2A-820E-99A5805FBD6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ssive-compulsive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dividuals are preoccupied with orderliness, perfectionism &amp; control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sumed by the details of everything and lose their sense of overall goal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y are strict, perfectionist &amp; inflexible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bsessed with work &amp; are hesitant to delegate tasks to other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ther traits include being miserly and unable to give up possession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ssociated features: Indecisiveness, dysphoria, anger, social inhibition, &amp; difficult interpersonal relationship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membe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This personality disorder should not be confused with obsessive -compulsive disorder (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CD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B35B-DBFF-4A88-85D4-70FCB0FE624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B616-AB8B-41BA-BCD0-E4535039B20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316-26E6-4626-A23B-9B51429EAB0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D607-C876-4E07-844E-0BB6D4D8B4F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( dramatic emotional flamboyant and erratic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istrion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ul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order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rcisst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soci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ibit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nkastic (obsessive compulsiv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ypochondriacal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ressive (dysthymi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C3ED-F2B6-4E0B-BFF8-A32BB727CF3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D183-88CB-4B46-BDB2-5687BF66D31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demiology and 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10% outpatients and 5% in patients diagn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common in those aged 18- 35 years in males and lower social cla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etiolog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rise from family and early background facto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sychological factors (early attachments, maladaptive learning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al (prenatal factor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reditary (genetic preposition or chromosomal abnormal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617E-96EA-4895-B0F9-A561E877EF9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4EA-BDEE-4542-B8E3-9EFB35A5998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pitation and Perpe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are lifelong and enduring but may be revealed by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ress or removal of support (through death or separ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sent with depression, anxiety, drug or alcohol abuse, self harm or other psychiatric dis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petuated by social enforcement, subcultural expectations and label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5A5-4983-4B43-8533-C63D55F47B8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6E4-CA0E-4181-BA64-E826AB486E5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Defense Mechanis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ial (refuse to admit or accep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jection (point to other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ression (forget/ unconsciou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placement (express undesirable impulse on a safer objec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ationalization (make excus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ction Formation (express opposite feelings to your ow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llectualization (hold back emotion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blimation (react to feeling in a way acceptable by socie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4:19:37Z</dcterms:created>
  <dc:creator>deirdre</dc:creator>
  <dc:description/>
  <dc:language>en-US</dc:language>
  <cp:lastModifiedBy>KASISI</cp:lastModifiedBy>
  <dcterms:modified xsi:type="dcterms:W3CDTF">2016-11-19T08:13:47Z</dcterms:modified>
  <cp:revision>19</cp:revision>
  <dc:subject/>
  <dc:title>Personality Disorders</dc:title>
</cp:coreProperties>
</file>